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wmf" ContentType="image/x-wmf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wmf" ContentType="image/x-wmf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6200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DC99B9-E0E1-4DB1-A792-27CC21DD0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7280" y="7030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2928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3120" cy="346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cond and third generation technologies are primarily are designed for mobility systems. However, based on a paper by researchers at Erricson we conclude that even for a fixed system the system capacity would be at most double what is shown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x’s performance shown is based on a 2x15 MHz layout with 1 MHz guard bands (therefore 2x13 MHz of usable spectrum for data). For a system with 16 antennas and a spectral spreading factor 2, the baseline performance for traffic (4 bits/tone) is 0.92 bps/Hz per user. It is conceivable that the 32 degrees of freedom could support 32 users, in which case the capacity is 29.6 bps/Hz. Although conceivable, supporting 32 users is not likely. Simulations for a single cell indicate that the number of simultaneous users with 32 DOFs is about 16, which corresponds to 14.8 bps/Hz. For an embedded cell with a suburban Hata/COST-231 propagation model, simulations indicate that the number of simultaneous users with 32 DOFs is about 9. This corresponds to 8.3 bps/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0197-1213-439D-B8F0-EC63BE63615B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F3C-B1CD-4114-8841-B5E4F9CC0974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62440" y="3757680"/>
            <a:ext cx="347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NLOS in the microwave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CDMA vs OFD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ernard Aboussou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VP 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57760" y="365040"/>
          <a:ext cx="142848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7760" y="365040"/>
                    <a:ext cx="14284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555720" y="365040"/>
            <a:ext cx="539748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mPlex™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base_combo" descr=""/>
          <p:cNvPicPr/>
          <p:nvPr/>
        </p:nvPicPr>
        <p:blipFill>
          <a:blip r:embed="rId1"/>
          <a:stretch/>
        </p:blipFill>
        <p:spPr>
          <a:xfrm>
            <a:off x="3648240" y="1233360"/>
            <a:ext cx="2638440" cy="2546640"/>
          </a:xfrm>
          <a:prstGeom prst="rect">
            <a:avLst/>
          </a:prstGeom>
          <a:ln w="0">
            <a:noFill/>
          </a:ln>
        </p:spPr>
      </p:pic>
      <p:pic>
        <p:nvPicPr>
          <p:cNvPr id="151" name="group%201%20inside%20with%20laptop" descr=""/>
          <p:cNvPicPr/>
          <p:nvPr/>
        </p:nvPicPr>
        <p:blipFill>
          <a:blip r:embed="rId2"/>
          <a:stretch/>
        </p:blipFill>
        <p:spPr>
          <a:xfrm>
            <a:off x="7340760" y="1420920"/>
            <a:ext cx="1217520" cy="1825560"/>
          </a:xfrm>
          <a:prstGeom prst="rect">
            <a:avLst/>
          </a:prstGeom>
          <a:ln w="0">
            <a:noFill/>
          </a:ln>
        </p:spPr>
      </p:pic>
      <p:pic>
        <p:nvPicPr>
          <p:cNvPr id="152" name="config-gif" descr=""/>
          <p:cNvPicPr/>
          <p:nvPr/>
        </p:nvPicPr>
        <p:blipFill>
          <a:blip r:embed="rId3"/>
          <a:stretch/>
        </p:blipFill>
        <p:spPr>
          <a:xfrm>
            <a:off x="6580080" y="4392720"/>
            <a:ext cx="2360880" cy="1716120"/>
          </a:xfrm>
          <a:prstGeom prst="rect">
            <a:avLst/>
          </a:prstGeom>
          <a:ln w="0">
            <a:noFill/>
          </a:ln>
        </p:spPr>
      </p:pic>
      <p:pic>
        <p:nvPicPr>
          <p:cNvPr id="153" name="remote1" descr=""/>
          <p:cNvPicPr/>
          <p:nvPr/>
        </p:nvPicPr>
        <p:blipFill>
          <a:blip r:embed="rId4"/>
          <a:stretch/>
        </p:blipFill>
        <p:spPr>
          <a:xfrm>
            <a:off x="1041480" y="1384200"/>
            <a:ext cx="1752480" cy="17528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95400" y="4306680"/>
            <a:ext cx="4707000" cy="13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In local trial: Feb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First customer trial in US: Q2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Commercial availability: Q3-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3400" y="5934240"/>
            <a:ext cx="4780080" cy="39888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ease come visit us at booth 1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56880" y="1555200"/>
            <a:ext cx="7628040" cy="452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budget &amp; low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link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al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High spectrum flex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ll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944280" y="1403280"/>
            <a:ext cx="7628040" cy="532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Coverage: Link Budget &amp; fade margin not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verage, availability, height of antennas, building penetration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agation model: Cost 231, Erceg B/ C, Tree canopy with diff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 rate assumed</a:t>
            </a: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apacity: Mb/s pe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of modulation, 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-cell scen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radius and spectral efficiency assu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Spectrum efficiency: Mb/s/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E and cost of instal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rastructure cost per subscriber and cost of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spect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roduct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Evaluation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amReach Networks’ Sol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ofdm_nt" descr=""/>
          <p:cNvPicPr/>
          <p:nvPr/>
        </p:nvPicPr>
        <p:blipFill>
          <a:blip r:embed="rId1"/>
          <a:stretch/>
        </p:blipFill>
        <p:spPr>
          <a:xfrm>
            <a:off x="5308560" y="118116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578560" y="196344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3320" y="282096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60960" y="371772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91360" y="3394080"/>
            <a:ext cx="16858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7520" y="1629720"/>
            <a:ext cx="1686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58120" y="2423880"/>
            <a:ext cx="168588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8200" y="1487160"/>
            <a:ext cx="4757760" cy="343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Based on Adaptive MultiBeam OFDM (AMB-OFD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Delivers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aunching BeamPlex™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2000" y="5451480"/>
            <a:ext cx="3586320" cy="52056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Comprom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4840" y="1992240"/>
            <a:ext cx="4790880" cy="345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Beamforming and Spectral combin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Optimal M-branch diversity comb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t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4 dB fade margin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Huge increase in useable path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cell area by factor of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35000"/>
              </a:lnSpc>
              <a:spcBef>
                <a:spcPts val="1012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d for indoo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>
            <a:lum contrast="12000"/>
          </a:blip>
          <a:srcRect l="0" t="0" r="0" b="7137"/>
          <a:stretch/>
        </p:blipFill>
        <p:spPr>
          <a:xfrm>
            <a:off x="4762440" y="2136600"/>
            <a:ext cx="4381560" cy="2811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65680" y="5066640"/>
            <a:ext cx="437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bability Distribution of SNR (dB) for M Bran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44280" y="1923480"/>
            <a:ext cx="7628040" cy="367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Near symmetrical link rates at cell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Mb/s down, net of MAC &amp; PHY overh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 Mb/s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12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Sub-rate services and settable SLAs</a:t>
            </a:r>
            <a:r>
              <a:rPr b="1" lang="en-US" sz="2000" spc="-1" strike="noStrike">
                <a:solidFill>
                  <a:srgbClr val="4540a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1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2bcd"/>
                </a:solidFill>
                <a:latin typeface="Arial"/>
              </a:rPr>
              <a:t>Very high capacity p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able up to 220 Mb/s in 24 MHz of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usands of subscri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 to 10 times intra-cell frequency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frequency reuse in adjacent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nk Rate &amp;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87760" y="723600"/>
            <a:ext cx="6262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87480" y="2030400"/>
          <a:ext cx="7623000" cy="35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2030400"/>
                    <a:ext cx="7623000" cy="35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of AMB-OFDM vs CD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78840" y="4875120"/>
            <a:ext cx="259308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pectral e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0.5- 0.75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9 b/s/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2280" y="4951440"/>
            <a:ext cx="2122200" cy="94752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MA: 24-27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DM: 220 Mb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95440" y="1434960"/>
          <a:ext cx="379224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5440" y="1434960"/>
                    <a:ext cx="37922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4657680" y="1455840"/>
          <a:ext cx="4291200" cy="23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57680" y="1455840"/>
                    <a:ext cx="42912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3833280" y="3986280"/>
            <a:ext cx="1287000" cy="3988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18360" y="2116080"/>
            <a:ext cx="62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34720" y="2941560"/>
            <a:ext cx="100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B-OF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1440" y="762120"/>
            <a:ext cx="617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of CPE &amp; insta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14640" y="1933560"/>
            <a:ext cx="13510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ypi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utdoor Instal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46760" y="5915160"/>
            <a:ext cx="156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us (m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30400" y="1708200"/>
            <a:ext cx="2152440" cy="2385000"/>
            <a:chOff x="1130400" y="1708200"/>
            <a:chExt cx="2152440" cy="2385000"/>
          </a:xfrm>
        </p:grpSpPr>
        <p:sp>
          <p:nvSpPr>
            <p:cNvPr id="136" name=""/>
            <p:cNvSpPr/>
            <p:nvPr/>
          </p:nvSpPr>
          <p:spPr>
            <a:xfrm>
              <a:off x="1320480" y="3755880"/>
              <a:ext cx="188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ae00"/>
                  </a:solidFill>
                  <a:latin typeface="Arial"/>
                </a:rPr>
                <a:t>Cell distrib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7" name=""/>
            <p:cNvGraphicFramePr/>
            <p:nvPr/>
          </p:nvGraphicFramePr>
          <p:xfrm>
            <a:off x="1130400" y="1708200"/>
            <a:ext cx="2152440" cy="194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30400" y="1708200"/>
                      <a:ext cx="2152440" cy="194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9" name=""/>
            <p:cNvSpPr/>
            <p:nvPr/>
          </p:nvSpPr>
          <p:spPr>
            <a:xfrm>
              <a:off x="1600920" y="2403360"/>
              <a:ext cx="12139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609200" y="1857240"/>
              <a:ext cx="135108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Outdoor Instal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272120" y="1219320"/>
            <a:ext cx="4681440" cy="2835000"/>
          </a:xfrm>
          <a:prstGeom prst="rect">
            <a:avLst/>
          </a:prstGeom>
          <a:ln w="0">
            <a:noFill/>
          </a:ln>
        </p:spPr>
      </p:pic>
      <p:pic>
        <p:nvPicPr>
          <p:cNvPr id="142" name="6c" descr=""/>
          <p:cNvPicPr/>
          <p:nvPr/>
        </p:nvPicPr>
        <p:blipFill>
          <a:blip r:embed="rId4"/>
          <a:stretch/>
        </p:blipFill>
        <p:spPr>
          <a:xfrm>
            <a:off x="7142040" y="4348080"/>
            <a:ext cx="1204920" cy="1500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7136640" y="586440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Out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52760" y="4098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Indo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2640" y="4308480"/>
            <a:ext cx="642168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ly integrated, ASIC based C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options to minimize truck rolls and maximize cell radi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indoor with window mounted anten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x of indoor and outdoor eaves mounted for larger cell radiu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38160" y="1563840"/>
          <a:ext cx="7631280" cy="44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563840"/>
                    <a:ext cx="76312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Karen Crain</cp:lastModifiedBy>
  <cp:lastPrinted>2000-12-08T01:40:16Z</cp:lastPrinted>
  <dcterms:modified xsi:type="dcterms:W3CDTF">2002-02-08T22:41:35Z</dcterms:modified>
  <cp:revision>814</cp:revision>
  <dc:subject>Investor Presentation</dc:subject>
  <dc:title>Radix Technologies</dc:title>
</cp:coreProperties>
</file>