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24B532-187E-4F7C-BBCF-A19F24CB7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F0E1D-88C5-4067-9CFC-AF9CC3516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41AD800-5BF9-45F4-B13A-F8D66096C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497AB37-D7A9-430A-B87A-D3F6087BCA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FBAE53D8-6FFB-4233-B660-5F9B91FF0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388C9-88B8-4B27-8A87-61A5B42160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20B94-B324-46DC-972E-BA98BC09D4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24FC63-B64F-4034-819B-357F8A3E3A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AC9ADFF-CFAF-4FBD-B724-4DA322D3E8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2681F7E4-525A-4953-8F1A-F3D6D885A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636A0C24-F45F-497B-9B7F-BF9E05DA98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0925B8F-C552-4500-BA1C-F8477A1763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8CCFC75-C763-47C4-8062-582E0E7F6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3444654-4172-4366-891B-1CDDD9B2D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CF5BA00-09AA-48B2-A136-5BF3FAC88F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53E61CEF-2748-4AEC-AB20-09007826E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5F167550-660B-4706-9ADE-CD14EC7B5D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73DFE37E-CD90-4464-A34E-82382D72E7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6053E95-E18F-4078-9DE1-034C90D81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20E6168-0A71-4582-AD09-CDAFAE1AD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4E382A98-0FB2-4DED-B89D-E792DB997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F9AE2BF-280D-4D6D-93F8-F6D0785AB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DA65493-0F75-447E-BA85-553297CFB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F789668-20A3-4288-84A4-4FD19C4FE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7B31E57-1F22-49D5-A0C3-ABFADF46D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9F8D-0F1A-47BD-B71F-E70885AC2476}"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AEB1-3C78-4010-97C3-3D525256A8A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0219-4E9B-49AE-A066-BB09F6127CC3}" type="datetime3">
              <a:rPr b="0" lang="en-US" sz="2800" spc="-1" strike="noStrike">
                <a:solidFill>
                  <a:srgbClr val="ffffff"/>
                </a:solidFill>
                <a:latin typeface="Arial"/>
              </a:rPr>
              <a:t>July 31,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75033E-5F6F-464F-BC55-91CAE1D83B94}"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24F1411-C40E-43CC-882D-BF61023ED0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37DE498F-6690-4CB1-915D-AACE6BA8EA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5557B72-C2F2-4694-8685-14AA1B068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2AB2AC4-08AE-47C5-9AE4-D9235DE881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C9E5E67-8C2A-48F7-8270-2EFC9A8C41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010E6CD-599C-4869-893B-67DA45127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BE43A0B-8C6F-42A1-B04C-C9D097D411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1E29F6A-205D-4FD0-8FAB-8A4AF1503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21D50FE-62BF-444F-BEBB-7FD9FA5F34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F62B8F5-56A6-491A-934D-44E65241F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A9DBA623-04D3-4F01-8509-A215B4424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C76845A-E3C0-4898-AA3C-C47139D94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9DA8F505-58F9-4D69-8C21-6E61042485B1}"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D155647-457B-4E99-A003-29C9E53F33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60E2A051-69D3-4357-BF58-86948095B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3A4A4062-E814-4EA1-A18D-FF16587AD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F4A8F0F-03FF-4253-A79C-9F68D72740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9A6C6FE-4F58-40FC-B17F-A4477E066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AC07C2C-B495-4AED-90F0-A0A7B52A4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0B29BDC-0A70-45BA-906B-2FD3520B0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