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04920" y="45842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458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7600" y="458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32920" y="251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60560" y="251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04920" y="458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32920" y="458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60560" y="458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7EEF3A-6522-4645-B3BC-C17C7D558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4920" y="25142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335B97-6F9D-43AD-B853-6E9F7D2F5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6C8620-8A3E-4A7F-AC65-20D7C2D74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9B8F95-7581-4F88-866F-2101A5C5B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853529-7522-46DE-96AB-F2B49D4C7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4920" y="914040"/>
            <a:ext cx="73152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A332BF-35A3-4FF8-B8CD-A1557F11F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4920" y="458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F2A0E3-F1E8-41D4-8A92-7FB30DA19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04920" y="25142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287600" y="458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C1AB6B-D85F-4138-A2BF-CB6521326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4920" y="45842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E25F8A-8217-487A-B2CC-39C7C0CDA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4920" y="45842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81ED41-6162-46F0-89F2-7C750CD82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4920" y="458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287600" y="458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F41047-163E-439C-8A8F-A629158A0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2932920" y="251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560560" y="251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4920" y="458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2932920" y="458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560560" y="4584240"/>
            <a:ext cx="2502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8C7FC4-0E2B-4BB0-B3AB-25F97383C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914040"/>
            <a:ext cx="73152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04920" y="458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7600" y="458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7600" y="2514240"/>
            <a:ext cx="37926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04920" y="4584240"/>
            <a:ext cx="777240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0" y="0"/>
          <a:ext cx="9144000" cy="1219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 Narrow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04920" y="25142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SzPct val="80000"/>
              <a:buFont typeface="Monotype Sorts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13160" indent="-274320">
              <a:spcBef>
                <a:spcPts val="799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2" marL="1097280" indent="-219240"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3" marL="1536120" indent="-219240">
              <a:spcBef>
                <a:spcPts val="799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4" marL="1974960" indent="-219240">
              <a:spcBef>
                <a:spcPts val="799"/>
              </a:spcBef>
              <a:buClr>
                <a:srgbClr val="ffffff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5" marL="1974960" indent="-21924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6" marL="1974960" indent="-21924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5029200" y="6095880"/>
            <a:ext cx="3733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0" y="6548400"/>
          <a:ext cx="9144000" cy="3096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6548400"/>
                    <a:ext cx="914400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 Narrow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01231-C1FF-4F38-B06F-B231E71437C1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04920" y="1371600"/>
            <a:ext cx="8458200" cy="5029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Arial"/>
              </a:rPr>
              <a:t>The Reality of NLOS: Cost, Coverage and Capacity</a:t>
            </a:r>
            <a:br>
              <a:rPr sz="3600"/>
            </a:br>
            <a:br>
              <a:rPr sz="3600"/>
            </a:br>
            <a:r>
              <a:rPr b="1" lang="en-US" sz="3000" spc="-1" strike="noStrike">
                <a:solidFill>
                  <a:srgbClr val="333333"/>
                </a:solidFill>
                <a:latin typeface="Arial"/>
              </a:rPr>
              <a:t>Michael D. Greenbaum</a:t>
            </a:r>
            <a:br>
              <a:rPr sz="3000"/>
            </a:b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President &amp; CEO</a:t>
            </a:r>
            <a:br>
              <a:rPr sz="2800"/>
            </a:b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Hybrid Networks, Inc.</a:t>
            </a:r>
            <a:br>
              <a:rPr sz="2800"/>
            </a:b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michael.greenbaum@hybrid.com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Broadband Wireless World Forum</a:t>
            </a:r>
            <a:br>
              <a:rPr sz="2800"/>
            </a:b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February 12, 2002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slow" advTm="6000">
    <p:cover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 Narrow"/>
              </a:rPr>
              <a:t>INDUSTRY REQUIREMENT</a:t>
            </a: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2438280"/>
            <a:ext cx="80010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A Second Generation Product: 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1.  NLOS, 90% Coverage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18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2.  Low-Cost CPE &lt; $500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18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822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3.  Self-Installable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slow" advTm="6000">
    <p:cover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 Narrow"/>
              </a:rPr>
              <a:t>OPERATOR ROI</a:t>
            </a: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057400" y="1676520"/>
            <a:ext cx="5410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Capital Expenditur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FBBW vs. Cable, DSL, Satellite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Payback Period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</a:rPr>
              <a:t>  </a:t>
            </a:r>
            <a:r>
              <a:rPr b="0" lang="en-US" sz="11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333333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Market Shar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Time to Market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Market Penetration 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Market Expansion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Revenu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ARPU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333333"/>
                </a:solidFill>
                <a:latin typeface="Arial"/>
              </a:rPr>
              <a:t>Tiered Service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slow" advTm="6000">
    <p:cover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 Narrow"/>
              </a:rPr>
              <a:t>THE COMPLETE SYSTEM SOLUTION</a:t>
            </a: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520" y="4266720"/>
            <a:ext cx="86104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Modulation/Coding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333333"/>
                </a:solidFill>
                <a:latin typeface="Monotype Sorts"/>
                <a:ea typeface="Monotype Sorts"/>
              </a:rPr>
              <a:t></a:t>
            </a:r>
            <a:r>
              <a:rPr b="0" lang="en-US" sz="13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 Performance</a:t>
            </a: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Equalization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333333"/>
                </a:solidFill>
                <a:latin typeface="Monotype Sorts"/>
                <a:ea typeface="Monotype Sorts"/>
              </a:rPr>
              <a:t></a:t>
            </a:r>
            <a:r>
              <a:rPr b="0" lang="en-US" sz="13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333333"/>
                </a:solidFill>
                <a:latin typeface="Arial"/>
              </a:rPr>
              <a:t>  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Scaling</a:t>
            </a: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High-Volume CPE Chips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333333"/>
                </a:solidFill>
                <a:latin typeface="Monotype Sorts"/>
                <a:ea typeface="Monotype Sorts"/>
              </a:rPr>
              <a:t>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  Provisioning</a:t>
            </a: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Antennas 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333333"/>
                </a:solidFill>
                <a:latin typeface="Monotype Sorts"/>
                <a:ea typeface="Monotype Sorts"/>
              </a:rPr>
              <a:t></a:t>
            </a:r>
            <a:r>
              <a:rPr b="0" lang="en-US" sz="2600" spc="-1" strike="noStrike">
                <a:solidFill>
                  <a:srgbClr val="333333"/>
                </a:solidFill>
                <a:latin typeface="Arial"/>
              </a:rPr>
              <a:t>  Network Management</a:t>
            </a: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5791320" y="2286000"/>
          <a:ext cx="2971800" cy="173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1320" y="2286000"/>
                    <a:ext cx="2971800" cy="173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304920" y="1828800"/>
          <a:ext cx="2286000" cy="2230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1828800"/>
                    <a:ext cx="2286000" cy="223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6" name=""/>
          <p:cNvGrpSpPr/>
          <p:nvPr/>
        </p:nvGrpSpPr>
        <p:grpSpPr>
          <a:xfrm>
            <a:off x="3830760" y="1981080"/>
            <a:ext cx="969840" cy="1836720"/>
            <a:chOff x="3830760" y="1981080"/>
            <a:chExt cx="969840" cy="1836720"/>
          </a:xfrm>
        </p:grpSpPr>
        <p:graphicFrame>
          <p:nvGraphicFramePr>
            <p:cNvPr id="97" name=""/>
            <p:cNvGraphicFramePr/>
            <p:nvPr/>
          </p:nvGraphicFramePr>
          <p:xfrm>
            <a:off x="3830760" y="3040200"/>
            <a:ext cx="969840" cy="7776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8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830760" y="3040200"/>
                      <a:ext cx="969840" cy="777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9" name=""/>
            <p:cNvSpPr/>
            <p:nvPr/>
          </p:nvSpPr>
          <p:spPr>
            <a:xfrm>
              <a:off x="3983040" y="1981080"/>
              <a:ext cx="762120" cy="762120"/>
            </a:xfrm>
            <a:prstGeom prst="diamond">
              <a:avLst/>
            </a:prstGeom>
            <a:gradFill rotWithShape="0">
              <a:gsLst>
                <a:gs pos="0">
                  <a:srgbClr val="656565"/>
                </a:gs>
                <a:gs pos="50000">
                  <a:srgbClr val="dddddd"/>
                </a:gs>
                <a:gs pos="100000">
                  <a:srgbClr val="656565"/>
                </a:gs>
              </a:gsLst>
              <a:lin ang="13500000"/>
            </a:gradFill>
            <a:ln w="255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363920" y="2743200"/>
              <a:ext cx="0" cy="380880"/>
            </a:xfrm>
            <a:prstGeom prst="line">
              <a:avLst/>
            </a:prstGeom>
            <a:ln w="284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101" name=""/>
          <p:cNvSpPr/>
          <p:nvPr/>
        </p:nvSpPr>
        <p:spPr>
          <a:xfrm rot="10800000">
            <a:off x="2133360" y="2362320"/>
            <a:ext cx="152280" cy="761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10800000">
            <a:off x="2361960" y="2438280"/>
            <a:ext cx="152280" cy="609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10800000">
            <a:off x="3200400" y="2666520"/>
            <a:ext cx="76320" cy="304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10800000">
            <a:off x="2819160" y="2590920"/>
            <a:ext cx="152280" cy="380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0800000">
            <a:off x="2590560" y="2514600"/>
            <a:ext cx="152280" cy="457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3047760" y="2666520"/>
            <a:ext cx="75960" cy="304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10800000">
            <a:off x="5257440" y="2362320"/>
            <a:ext cx="152280" cy="761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10800000">
            <a:off x="5486040" y="2438280"/>
            <a:ext cx="152280" cy="609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10800000">
            <a:off x="6324480" y="2666520"/>
            <a:ext cx="76320" cy="304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rot="10800000">
            <a:off x="5943240" y="2590920"/>
            <a:ext cx="152280" cy="380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714640" y="2514600"/>
            <a:ext cx="152280" cy="457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rot="10800000">
            <a:off x="6172200" y="2666520"/>
            <a:ext cx="76320" cy="304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 Narrow"/>
              </a:rPr>
              <a:t>BEGIN WITH A PROVEN SYSTEM</a:t>
            </a: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Scaling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452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&gt;10,000 CPEs on One Base Station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452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&gt; 2,000 CPEs in One Sector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Performanc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&gt; 1 Mb/s Downstream on Fully Loaded System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Reliability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Low Field Failure Rate, &lt;0.25%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Failure Recovery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Automatic Restart and Return to Servic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slow" advTm="6000">
    <p:cover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 Narrow"/>
              </a:rPr>
              <a:t>THE NEW PRODUCT FOCUS</a:t>
            </a: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High Volume Chipsets  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tandard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Modulation: SC, OFDM, CDMA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Equalization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Media Access Contro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Provisioning, Network Managemen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Diversity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slow" advTm="6000"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 Narrow"/>
              </a:rPr>
              <a:t>THE ADDRESSABLE MARKET</a:t>
            </a: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333333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International and Domestic Market Size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lnSpc>
                <a:spcPct val="140000"/>
              </a:lnSpc>
              <a:spcBef>
                <a:spcPts val="1500"/>
              </a:spcBef>
              <a:buClr>
                <a:srgbClr val="333333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Large - Layered System (up to 100,000 CPEs)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lnSpc>
                <a:spcPct val="140000"/>
              </a:lnSpc>
              <a:spcBef>
                <a:spcPts val="1500"/>
              </a:spcBef>
              <a:buClr>
                <a:srgbClr val="333333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mall - Entry Level System (up to 2,000 CPEs)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9" name=""/>
          <p:cNvSpPr/>
          <p:nvPr/>
        </p:nvSpPr>
        <p:spPr>
          <a:xfrm>
            <a:off x="1066680" y="2666880"/>
            <a:ext cx="708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slow" advTm="6000">
    <p:pull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73152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 Narrow"/>
              </a:rPr>
              <a:t>CONCLUSIONS</a:t>
            </a:r>
            <a:endParaRPr b="0" lang="en-US" sz="36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773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Develop a Second Generation System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Build on a Proven Product Bas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Focus on Key Product Feature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NLOS, 90% Coverag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Low Cost CPE &lt;$500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Self-Installabl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Meeting Varying Market Size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33"/>
              </a:buClr>
              <a:buSzPct val="8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Second Generation Solution = Improved Operator ROI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slow" advTm="6000"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31T20:40:28Z</dcterms:created>
  <dc:creator>TracyI</dc:creator>
  <dc:description/>
  <dc:language>en-US</dc:language>
  <cp:lastModifiedBy>TracyI</cp:lastModifiedBy>
  <cp:lastPrinted>2002-02-09T03:23:35Z</cp:lastPrinted>
  <dcterms:modified xsi:type="dcterms:W3CDTF">2002-02-09T04:53:59Z</dcterms:modified>
  <cp:revision>32</cp:revision>
  <dc:subject/>
  <dc:title>No Slide Title</dc:title>
</cp:coreProperties>
</file>