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24B6443-469E-4071-A6C9-4527B9E27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D7440-0D54-45D9-9E8B-0CC7FC8056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5C4A6CC4-80EF-43BB-9758-B5DA2078C7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329BBD54-E69F-48EE-AF8E-B512298416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4C159A11-30F9-4B64-993E-959735072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7901F1-ECF1-4645-884D-3C766DF375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9B496B-47F7-411F-8418-F09BF0FAF4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E6784E-653A-46F0-BC14-78E360258C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B9C04DE6-E500-467A-8FCA-7CFAB447A6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092E6794-A102-4B44-ABEF-11579111A9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A77E4D66-0020-44B6-B778-E12735EA32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35D6EF32-DC5F-4D8C-B427-2106B96619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1558A9A7-4809-4A6D-ABF6-36F9F5797C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83B14C15-F629-43AF-AFD2-7B7C585F45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1EA60500-E811-4394-86B6-87C4886D4E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AB0D769D-4C44-413C-B8D4-92AE81B942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34F27246-400C-4E9B-B4C0-7035DB5673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4A92D3ED-38C8-4798-A5D5-2E29732CC0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6C6F93EA-C133-4616-A4E1-DFC7CD71D1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2C39C5B1-BDEC-4601-911E-17FD81684E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24230E6C-DEC9-4FFF-840F-F223F7674E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C2FD6290-0BE5-4765-8ECA-DF8FB0FE54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C05EB871-58EA-43D9-B6A9-98001AF888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91D5C59-5BC4-499B-867C-14A1C1C9F6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53ABB11-E5EF-4CC9-9BD4-D50984FA7E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071E-6E6A-4497-8B49-60E603D5CD46}"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D741-CEFF-4DF7-9271-468CF4857DCF}"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F4DC-7D1C-4991-844B-0A232ECE93FA}" type="datetime3">
              <a:rPr b="0" lang="en-US" sz="2800" spc="-1" strike="noStrike">
                <a:solidFill>
                  <a:srgbClr val="ffffff"/>
                </a:solidFill>
                <a:latin typeface="Arial"/>
              </a:rPr>
              <a:t>July 30,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FFDC7B-3316-4753-9FFF-9F1D882E327E}"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1860C8C-F1FA-4195-8700-DD7BCE772E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48892815-D97C-4850-B47E-248ED57006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D5000C4-F2C2-4048-AA5B-C4D91123C7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CB7AE1A-3A01-4B83-A4FC-94994A62B9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8E44232-84D4-4CB2-B155-36D8944B0D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B89C57E-6111-4FD2-8E61-D4104BBDE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EFD3B26-A63F-4928-83DF-C4E81569B7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5C7706D-57DC-4821-B08B-7347EEB0A1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4632DBB-FDCE-455C-9D01-02960FA18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81C4982-177A-4BFB-86FE-87D89E983C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5269B6A5-D10F-4068-ADDC-B8BF0A3AA6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5FA9D8E-DF48-4C57-A87B-35C556C890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3B68F1FB-0392-4BE4-A950-60ED4DE00A36}"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EB00718-4F3E-4254-AC1B-6C0065B59F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985E7C57-2FCA-451D-8C05-05E8C063E6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D23794CD-1ED3-447D-AF9F-A398218616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D8B511E-5E27-4DB5-9CF1-887239A054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4D2104D-9CC1-4019-9E57-B8BD93556E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01C17E4-2E6C-4BA8-A71B-2F8B62317B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29162C6-7C51-4A8A-9E9E-CDAB003092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