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7.jpeg" ContentType="image/jpeg"/>
  <Override PartName="/ppt/media/image11.png" ContentType="image/png"/>
  <Override PartName="/ppt/media/image4.pct" ContentType="image/x-pict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move the slide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7631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FF4-2076-4772-87B3-C9811E1A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2 uses an almost identical PHY to 802.11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HiperLAN2 MAC has a connection-oriented protocol (similar to 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Every session must be set up and torn down,  prior to exchang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The connection orientation while good for constant rate traffic like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likely prove Inefficient for Ethernet based applications, using IP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ard does not support Ad-hoc (peer-to-peer)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pplications requiring QOS are also being addressed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onnection-less protocols  with packet shaping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prove to be a good solution for distributing digital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s within the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HiperLAN-2 may be too late to market to achieve penetration 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d to become competitive with 802.1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2.11h proposal addresses coexistence of 802.11a with HiperLAN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 DEC 99 defines frequency bands, power limits, coexistence mech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Dynamic Channel Selection (D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se receiver idle channel signal strength to detect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tomatically configure frequency channel to avoid 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ontrols the process, Clients follow the AP 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1h Adds Transmit Power Control (TP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xim Vie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pursue regulatory approval for its 802.11a products in Eur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sed on DCS and TPC features in its initial produc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xim will build  .11h compliance into its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80960"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en final issues with the standard are deci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03320"/>
                <a:tab algn="l" pos="2006640"/>
                <a:tab algn="l" pos="3009960"/>
                <a:tab algn="l" pos="4013280"/>
                <a:tab algn="l" pos="5016600"/>
                <a:tab algn="l" pos="6019920"/>
                <a:tab algn="l" pos="7023240"/>
                <a:tab algn="l" pos="8026560"/>
                <a:tab algn="l" pos="9029880"/>
                <a:tab algn="l" pos="100328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13D4-0571-4493-AF84-DE5127170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A023-14BB-4A93-A8DB-E9B918DB8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95E0-3B6A-4C39-B26B-6FF3867CA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29A98-52FD-41EE-94AA-80A6A0CFD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CE4AC-0A22-437C-9251-F8539B8674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1648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8560" y="160020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1648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8560" y="374976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F23A-F448-4BC6-8D2B-2D96EAAF0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A523-1567-4514-97A9-E8644AB37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D3D2-1922-4ADF-98AE-4286565EB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8559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8F6E-8C4C-4E78-9D95-B5683E512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4700E-1552-4D0D-B14B-7A1590B026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58200" y="374976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0AFC9-4AC6-4C1E-B34C-30C11273A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8200" y="160020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749760"/>
            <a:ext cx="7696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A56A3-4C67-4FD9-B529-405C5D7B12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8458200" y="640080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E252-F332-44BF-A95D-D8724489794B}" type="slidenum">
              <a:rPr b="0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3" marL="1486080" indent="-22860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4" marL="1771560" indent="-1713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5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6" marL="1771560" indent="-171360">
              <a:lnSpc>
                <a:spcPct val="85000"/>
              </a:lnSpc>
              <a:spcBef>
                <a:spcPts val="10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roxim%20wht%20background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693432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Click to edit the outline text format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Second Outline Leve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857160" indent="57240" algn="ctr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3" marL="1200240" indent="57240" algn="ctr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4" marL="1542960" indent="57240" algn="ctr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5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  <a:p>
            <a:pPr lvl="6" marL="1542960" indent="57240">
              <a:spcBef>
                <a:spcPts val="349"/>
              </a:spcBef>
              <a:buClr>
                <a:srgbClr val="333399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Impact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A Brief Review of 5Ghz Wireless Standards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Ken Haase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Proxim 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  <a:p>
            <a:pPr indent="0" algn="ctr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9933"/>
                </a:solidFill>
                <a:latin typeface="Arial Narrow"/>
              </a:rPr>
              <a:t>February 2002</a:t>
            </a:r>
            <a:endParaRPr b="1" i="1" lang="en-US" sz="2400" spc="-1" strike="noStrike">
              <a:solidFill>
                <a:srgbClr val="ff9933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8320" y="1260360"/>
            <a:ext cx="5959440" cy="41594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Better Performance at Any Range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572000" cy="21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retains consistently higher data rates than 802.11b at all distanc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More robust modulation techniqu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orward error correction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51" name=""/>
          <p:cNvSpPr/>
          <p:nvPr/>
        </p:nvSpPr>
        <p:spPr>
          <a:xfrm>
            <a:off x="5216400" y="5529960"/>
            <a:ext cx="23644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l values are radio rate in Mbps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ot all radio rates are shown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C Magazine 11a vs. 11b Comparis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69608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332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55" name="0,3363,s%253D1%2526i%253D6417,00" descr="100MB Data-Transfer Tests"/>
          <p:cNvPicPr/>
          <p:nvPr/>
        </p:nvPicPr>
        <p:blipFill>
          <a:blip r:embed="rId2"/>
          <a:stretch/>
        </p:blipFill>
        <p:spPr>
          <a:xfrm>
            <a:off x="1338120" y="1903320"/>
            <a:ext cx="6469200" cy="3051360"/>
          </a:xfrm>
          <a:prstGeom prst="rect">
            <a:avLst/>
          </a:prstGeom>
          <a:ln w="0">
            <a:noFill/>
          </a:ln>
        </p:spPr>
      </p:pic>
      <p:pic>
        <p:nvPicPr>
          <p:cNvPr id="156" name="pcmag_logo" descr=""/>
          <p:cNvPicPr/>
          <p:nvPr/>
        </p:nvPicPr>
        <p:blipFill>
          <a:blip r:embed="rId3"/>
          <a:stretch/>
        </p:blipFill>
        <p:spPr>
          <a:xfrm>
            <a:off x="7886880" y="266760"/>
            <a:ext cx="831600" cy="11142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992160" y="53110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“</a:t>
            </a:r>
            <a:r>
              <a:rPr b="1" i="1" lang="en-US" sz="1800" spc="-1" strike="noStrike">
                <a:solidFill>
                  <a:srgbClr val="333399"/>
                </a:solidFill>
                <a:latin typeface="Times New Roman"/>
              </a:rPr>
              <a:t>In data-transfer testing, we found that the Proxim 802.11a cards were up to about 4.5 times as fast as the 802.11b cards.”</a:t>
            </a: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54800" y="5888880"/>
            <a:ext cx="346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imes New Roman"/>
              </a:rPr>
              <a:t>PC Magazine, December 11, 200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110360" cy="54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802.11a Spectrum and Channel Allocation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7720" y="3924360"/>
            <a:ext cx="7620120" cy="2209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20 MHz channel is divided into 52 carriers (48 carry data, 4 are pilot signals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ll 52 carriers are always used and each carrier is ~300kHz wide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ata rates from 6 Mb/s to 54 Mb/s are supported by varying modulation and error correction coding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5170320" y="2665440"/>
            <a:ext cx="385308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719680" y="1990800"/>
            <a:ext cx="315360" cy="1348200"/>
            <a:chOff x="5719680" y="1990800"/>
            <a:chExt cx="315360" cy="1348200"/>
          </a:xfrm>
        </p:grpSpPr>
        <p:sp>
          <p:nvSpPr>
            <p:cNvPr id="163" name=""/>
            <p:cNvSpPr/>
            <p:nvPr/>
          </p:nvSpPr>
          <p:spPr>
            <a:xfrm>
              <a:off x="5720400" y="1990800"/>
              <a:ext cx="31464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71968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877000" y="1990800"/>
            <a:ext cx="315360" cy="1348200"/>
            <a:chOff x="5877000" y="1990800"/>
            <a:chExt cx="315360" cy="1348200"/>
          </a:xfrm>
        </p:grpSpPr>
        <p:sp>
          <p:nvSpPr>
            <p:cNvPr id="166" name=""/>
            <p:cNvSpPr/>
            <p:nvPr/>
          </p:nvSpPr>
          <p:spPr>
            <a:xfrm>
              <a:off x="587808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877000" y="1990800"/>
              <a:ext cx="31536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6035760" y="1990800"/>
            <a:ext cx="313920" cy="1348200"/>
            <a:chOff x="6035760" y="1990800"/>
            <a:chExt cx="313920" cy="1348200"/>
          </a:xfrm>
        </p:grpSpPr>
        <p:sp>
          <p:nvSpPr>
            <p:cNvPr id="169" name=""/>
            <p:cNvSpPr/>
            <p:nvPr/>
          </p:nvSpPr>
          <p:spPr>
            <a:xfrm>
              <a:off x="603684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3576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6192720" y="1990800"/>
            <a:ext cx="313920" cy="1348200"/>
            <a:chOff x="6192720" y="1990800"/>
            <a:chExt cx="313920" cy="1348200"/>
          </a:xfrm>
        </p:grpSpPr>
        <p:sp>
          <p:nvSpPr>
            <p:cNvPr id="172" name=""/>
            <p:cNvSpPr/>
            <p:nvPr/>
          </p:nvSpPr>
          <p:spPr>
            <a:xfrm>
              <a:off x="61938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1927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350040" y="1990800"/>
            <a:ext cx="313920" cy="1348200"/>
            <a:chOff x="6350040" y="1990800"/>
            <a:chExt cx="313920" cy="1348200"/>
          </a:xfrm>
        </p:grpSpPr>
        <p:sp>
          <p:nvSpPr>
            <p:cNvPr id="175" name=""/>
            <p:cNvSpPr/>
            <p:nvPr/>
          </p:nvSpPr>
          <p:spPr>
            <a:xfrm>
              <a:off x="63511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3500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507000" y="1990800"/>
            <a:ext cx="313920" cy="1348200"/>
            <a:chOff x="6507000" y="1990800"/>
            <a:chExt cx="313920" cy="1348200"/>
          </a:xfrm>
        </p:grpSpPr>
        <p:sp>
          <p:nvSpPr>
            <p:cNvPr id="178" name=""/>
            <p:cNvSpPr/>
            <p:nvPr/>
          </p:nvSpPr>
          <p:spPr>
            <a:xfrm>
              <a:off x="6507720" y="1990800"/>
              <a:ext cx="31320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507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664320" y="1990800"/>
            <a:ext cx="313920" cy="1348200"/>
            <a:chOff x="6664320" y="1990800"/>
            <a:chExt cx="313920" cy="1348200"/>
          </a:xfrm>
        </p:grpSpPr>
        <p:sp>
          <p:nvSpPr>
            <p:cNvPr id="181" name=""/>
            <p:cNvSpPr/>
            <p:nvPr/>
          </p:nvSpPr>
          <p:spPr>
            <a:xfrm>
              <a:off x="6665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664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21640" y="1990800"/>
            <a:ext cx="313920" cy="1348200"/>
            <a:chOff x="6821640" y="1990800"/>
            <a:chExt cx="313920" cy="1348200"/>
          </a:xfrm>
        </p:grpSpPr>
        <p:sp>
          <p:nvSpPr>
            <p:cNvPr id="184" name=""/>
            <p:cNvSpPr/>
            <p:nvPr/>
          </p:nvSpPr>
          <p:spPr>
            <a:xfrm>
              <a:off x="682272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82164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978600" y="1990800"/>
            <a:ext cx="313920" cy="1348200"/>
            <a:chOff x="6978600" y="1990800"/>
            <a:chExt cx="313920" cy="1348200"/>
          </a:xfrm>
        </p:grpSpPr>
        <p:sp>
          <p:nvSpPr>
            <p:cNvPr id="187" name=""/>
            <p:cNvSpPr/>
            <p:nvPr/>
          </p:nvSpPr>
          <p:spPr>
            <a:xfrm>
              <a:off x="69796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69786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135920" y="1990800"/>
            <a:ext cx="313920" cy="1348200"/>
            <a:chOff x="7135920" y="1990800"/>
            <a:chExt cx="313920" cy="1348200"/>
          </a:xfrm>
        </p:grpSpPr>
        <p:sp>
          <p:nvSpPr>
            <p:cNvPr id="190" name=""/>
            <p:cNvSpPr/>
            <p:nvPr/>
          </p:nvSpPr>
          <p:spPr>
            <a:xfrm>
              <a:off x="71370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71359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8158320" y="1990800"/>
            <a:ext cx="313920" cy="1348200"/>
            <a:chOff x="8158320" y="1990800"/>
            <a:chExt cx="313920" cy="1348200"/>
          </a:xfrm>
        </p:grpSpPr>
        <p:sp>
          <p:nvSpPr>
            <p:cNvPr id="193" name=""/>
            <p:cNvSpPr/>
            <p:nvPr/>
          </p:nvSpPr>
          <p:spPr>
            <a:xfrm>
              <a:off x="815940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15832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7513560" y="1868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2764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43520" y="2746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20 MHz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27640" y="2749680"/>
            <a:ext cx="3538440" cy="0"/>
          </a:xfrm>
          <a:prstGeom prst="line">
            <a:avLst/>
          </a:prstGeom>
          <a:ln w="19080">
            <a:solidFill>
              <a:srgbClr val="333399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7440" y="14860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52 Carriers total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866080" y="2411280"/>
            <a:ext cx="0" cy="422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8001000" y="1990800"/>
            <a:ext cx="313920" cy="1348200"/>
            <a:chOff x="8001000" y="1990800"/>
            <a:chExt cx="313920" cy="1348200"/>
          </a:xfrm>
        </p:grpSpPr>
        <p:sp>
          <p:nvSpPr>
            <p:cNvPr id="202" name=""/>
            <p:cNvSpPr/>
            <p:nvPr/>
          </p:nvSpPr>
          <p:spPr>
            <a:xfrm>
              <a:off x="8002080" y="1990800"/>
              <a:ext cx="31248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001000" y="1990800"/>
              <a:ext cx="313920" cy="1348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933160" y="300348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One Channel (detail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68200">
            <a:off x="4111200" y="1634760"/>
            <a:ext cx="1533600" cy="32220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cubicBezTo>
                  <a:pt x="44" y="160"/>
                  <a:pt x="88" y="128"/>
                  <a:pt x="144" y="96"/>
                </a:cubicBezTo>
                <a:cubicBezTo>
                  <a:pt x="200" y="64"/>
                  <a:pt x="240" y="0"/>
                  <a:pt x="336" y="0"/>
                </a:cubicBezTo>
                <a:cubicBezTo>
                  <a:pt x="432" y="0"/>
                  <a:pt x="624" y="72"/>
                  <a:pt x="720" y="96"/>
                </a:cubicBezTo>
                <a:cubicBezTo>
                  <a:pt x="816" y="120"/>
                  <a:pt x="880" y="136"/>
                  <a:pt x="912" y="144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1822320"/>
            <a:ext cx="3146400" cy="60984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6280" y="319572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Eight channels in lower 5 GHz ban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393040" y="2522520"/>
            <a:ext cx="368280" cy="933480"/>
          </a:xfrm>
          <a:custGeom>
            <a:avLst/>
            <a:gdLst/>
            <a:ahLst/>
            <a:rect l="l" t="t" r="r" b="b"/>
            <a:pathLst>
              <a:path w="224" h="672">
                <a:moveTo>
                  <a:pt x="0" y="0"/>
                </a:moveTo>
                <a:cubicBezTo>
                  <a:pt x="80" y="100"/>
                  <a:pt x="160" y="200"/>
                  <a:pt x="192" y="288"/>
                </a:cubicBezTo>
                <a:cubicBezTo>
                  <a:pt x="224" y="376"/>
                  <a:pt x="216" y="464"/>
                  <a:pt x="192" y="528"/>
                </a:cubicBezTo>
                <a:cubicBezTo>
                  <a:pt x="168" y="592"/>
                  <a:pt x="72" y="648"/>
                  <a:pt x="48" y="672"/>
                </a:cubicBezTo>
              </a:path>
            </a:pathLst>
          </a:custGeom>
          <a:noFill/>
          <a:ln w="19080">
            <a:solidFill>
              <a:srgbClr val="993366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9720" y="339084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3366"/>
                </a:solidFill>
                <a:latin typeface="Times New Roman"/>
              </a:rPr>
              <a:t>Each carrier is ~300kHz wide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96920" y="1906560"/>
            <a:ext cx="4595400" cy="1285920"/>
            <a:chOff x="196920" y="1906560"/>
            <a:chExt cx="4595400" cy="1285920"/>
          </a:xfrm>
        </p:grpSpPr>
        <p:sp>
          <p:nvSpPr>
            <p:cNvPr id="211" name=""/>
            <p:cNvSpPr/>
            <p:nvPr/>
          </p:nvSpPr>
          <p:spPr>
            <a:xfrm>
              <a:off x="417600" y="2736720"/>
              <a:ext cx="4087800" cy="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53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480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4616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4382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320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255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61792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1140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0524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97280" y="2579760"/>
              <a:ext cx="0" cy="169560"/>
            </a:xfrm>
            <a:prstGeom prst="line">
              <a:avLst/>
            </a:prstGeom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52320" y="2074680"/>
              <a:ext cx="785160" cy="927360"/>
              <a:chOff x="652320" y="2074680"/>
              <a:chExt cx="785160" cy="927360"/>
            </a:xfrm>
          </p:grpSpPr>
          <p:sp>
            <p:nvSpPr>
              <p:cNvPr id="223" name=""/>
              <p:cNvSpPr/>
              <p:nvPr/>
            </p:nvSpPr>
            <p:spPr>
              <a:xfrm flipH="1">
                <a:off x="652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887760" y="2074680"/>
                <a:ext cx="313920" cy="262800"/>
                <a:chOff x="887760" y="2074680"/>
                <a:chExt cx="313920" cy="262800"/>
              </a:xfrm>
            </p:grpSpPr>
            <p:sp>
              <p:nvSpPr>
                <p:cNvPr id="225" name=""/>
                <p:cNvSpPr/>
                <p:nvPr/>
              </p:nvSpPr>
              <p:spPr>
                <a:xfrm flipV="1">
                  <a:off x="887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1201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942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9673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046160" y="2074680"/>
              <a:ext cx="785160" cy="927360"/>
              <a:chOff x="1046160" y="2074680"/>
              <a:chExt cx="785160" cy="92736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1046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281600" y="2074680"/>
                <a:ext cx="313920" cy="262800"/>
                <a:chOff x="1281600" y="2074680"/>
                <a:chExt cx="313920" cy="262800"/>
              </a:xfrm>
            </p:grpSpPr>
            <p:sp>
              <p:nvSpPr>
                <p:cNvPr id="232" name=""/>
                <p:cNvSpPr/>
                <p:nvPr/>
              </p:nvSpPr>
              <p:spPr>
                <a:xfrm flipV="1">
                  <a:off x="1281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15955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28808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5" name=""/>
              <p:cNvSpPr/>
              <p:nvPr/>
            </p:nvSpPr>
            <p:spPr>
              <a:xfrm>
                <a:off x="136116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1438200" y="2074680"/>
              <a:ext cx="786240" cy="927360"/>
              <a:chOff x="1438200" y="2074680"/>
              <a:chExt cx="786240" cy="92736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820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674000" y="2074680"/>
                <a:ext cx="314280" cy="262800"/>
                <a:chOff x="1674000" y="2074680"/>
                <a:chExt cx="314280" cy="262800"/>
              </a:xfrm>
            </p:grpSpPr>
            <p:sp>
              <p:nvSpPr>
                <p:cNvPr id="239" name=""/>
                <p:cNvSpPr/>
                <p:nvPr/>
              </p:nvSpPr>
              <p:spPr>
                <a:xfrm flipV="1">
                  <a:off x="1674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flipV="1">
                  <a:off x="19882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7c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68048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7c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2" name=""/>
              <p:cNvSpPr/>
              <p:nvPr/>
            </p:nvSpPr>
            <p:spPr>
              <a:xfrm>
                <a:off x="175356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1832040" y="2074680"/>
              <a:ext cx="785160" cy="927360"/>
              <a:chOff x="1832040" y="2074680"/>
              <a:chExt cx="785160" cy="92736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1832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2067480" y="2074680"/>
                <a:ext cx="313920" cy="262800"/>
                <a:chOff x="2067480" y="2074680"/>
                <a:chExt cx="313920" cy="262800"/>
              </a:xfrm>
            </p:grpSpPr>
            <p:sp>
              <p:nvSpPr>
                <p:cNvPr id="246" name=""/>
                <p:cNvSpPr/>
                <p:nvPr/>
              </p:nvSpPr>
              <p:spPr>
                <a:xfrm flipV="1">
                  <a:off x="20674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23814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0739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21470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2225520" y="2074680"/>
              <a:ext cx="785160" cy="927360"/>
              <a:chOff x="2225520" y="2074680"/>
              <a:chExt cx="785160" cy="92736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2225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2460960" y="2074680"/>
                <a:ext cx="313920" cy="262800"/>
                <a:chOff x="2460960" y="2074680"/>
                <a:chExt cx="313920" cy="26280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24609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27748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46744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66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254052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617920" y="2074680"/>
              <a:ext cx="786240" cy="927360"/>
              <a:chOff x="2617920" y="2074680"/>
              <a:chExt cx="786240" cy="92736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261792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2853720" y="2074680"/>
                <a:ext cx="314280" cy="262800"/>
                <a:chOff x="2853720" y="2074680"/>
                <a:chExt cx="314280" cy="262800"/>
              </a:xfrm>
            </p:grpSpPr>
            <p:sp>
              <p:nvSpPr>
                <p:cNvPr id="260" name=""/>
                <p:cNvSpPr/>
                <p:nvPr/>
              </p:nvSpPr>
              <p:spPr>
                <a:xfrm flipV="1">
                  <a:off x="285372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flipV="1">
                  <a:off x="31680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0200" y="2074680"/>
                  <a:ext cx="30456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99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2933280" y="2327760"/>
                <a:ext cx="47088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011400" y="2074680"/>
              <a:ext cx="785160" cy="927360"/>
              <a:chOff x="3011400" y="2074680"/>
              <a:chExt cx="785160" cy="927360"/>
            </a:xfrm>
          </p:grpSpPr>
          <p:sp>
            <p:nvSpPr>
              <p:cNvPr id="265" name=""/>
              <p:cNvSpPr/>
              <p:nvPr/>
            </p:nvSpPr>
            <p:spPr>
              <a:xfrm flipH="1">
                <a:off x="3011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3246840" y="2074680"/>
                <a:ext cx="313920" cy="262800"/>
                <a:chOff x="3246840" y="2074680"/>
                <a:chExt cx="313920" cy="262800"/>
              </a:xfrm>
            </p:grpSpPr>
            <p:sp>
              <p:nvSpPr>
                <p:cNvPr id="267" name=""/>
                <p:cNvSpPr/>
                <p:nvPr/>
              </p:nvSpPr>
              <p:spPr>
                <a:xfrm flipV="1">
                  <a:off x="324684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V="1">
                  <a:off x="356076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5332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332640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405240" y="2074680"/>
              <a:ext cx="785160" cy="927360"/>
              <a:chOff x="3405240" y="2074680"/>
              <a:chExt cx="785160" cy="92736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3405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640680" y="2074680"/>
                <a:ext cx="313920" cy="262800"/>
                <a:chOff x="3640680" y="2074680"/>
                <a:chExt cx="313920" cy="262800"/>
              </a:xfrm>
            </p:grpSpPr>
            <p:sp>
              <p:nvSpPr>
                <p:cNvPr id="274" name=""/>
                <p:cNvSpPr/>
                <p:nvPr/>
              </p:nvSpPr>
              <p:spPr>
                <a:xfrm flipV="1">
                  <a:off x="364068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V="1">
                  <a:off x="3954600" y="2084400"/>
                  <a:ext cx="0" cy="253080"/>
                </a:xfrm>
                <a:prstGeom prst="line">
                  <a:avLst/>
                </a:prstGeom>
                <a:ln w="1908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647160" y="2074680"/>
                  <a:ext cx="304200" cy="38520"/>
                </a:xfrm>
                <a:custGeom>
                  <a:avLst/>
                  <a:gdLst/>
                  <a:ahLst/>
                  <a:rect l="l" t="t" r="r" b="b"/>
                  <a:pathLst>
                    <a:path w="186" h="22">
                      <a:moveTo>
                        <a:pt x="0" y="0"/>
                      </a:moveTo>
                      <a:cubicBezTo>
                        <a:pt x="43" y="16"/>
                        <a:pt x="83" y="18"/>
                        <a:pt x="129" y="22"/>
                      </a:cubicBezTo>
                      <a:cubicBezTo>
                        <a:pt x="141" y="20"/>
                        <a:pt x="152" y="18"/>
                        <a:pt x="164" y="15"/>
                      </a:cubicBezTo>
                      <a:cubicBezTo>
                        <a:pt x="171" y="13"/>
                        <a:pt x="186" y="8"/>
                        <a:pt x="186" y="8"/>
                      </a:cubicBezTo>
                    </a:path>
                  </a:pathLst>
                </a:custGeom>
                <a:noFill/>
                <a:ln w="1908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3333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"/>
              <p:cNvSpPr/>
              <p:nvPr/>
            </p:nvSpPr>
            <p:spPr>
              <a:xfrm>
                <a:off x="3720240" y="2327760"/>
                <a:ext cx="470160" cy="674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99"/>
                  </a:solidFill>
                  <a:latin typeface="Times New Roman"/>
                </a:endParaRPr>
              </a:p>
            </p:txBody>
          </p:sp>
        </p:grpSp>
        <p:sp>
          <p:nvSpPr>
            <p:cNvPr id="278" name=""/>
            <p:cNvSpPr/>
            <p:nvPr/>
          </p:nvSpPr>
          <p:spPr>
            <a:xfrm>
              <a:off x="3562200" y="1906560"/>
              <a:ext cx="471600" cy="3366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9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5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56400" y="2736720"/>
              <a:ext cx="83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50 MHz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9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1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447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4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6845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8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516120" y="291600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9840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2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38428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26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70160" y="273672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99"/>
                  </a:solidFill>
                  <a:latin typeface="Times New Roman"/>
                </a:rPr>
                <a:t>5300</a:t>
              </a:r>
              <a:endParaRPr b="0" lang="en-US" sz="1200" spc="-1" strike="noStrike">
                <a:solidFill>
                  <a:srgbClr val="333399"/>
                </a:solidFill>
                <a:latin typeface="Times New Roman"/>
              </a:endParaRPr>
            </a:p>
          </p:txBody>
        </p:sp>
      </p:grp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OFDM Advantages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 </a:t>
            </a: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Orthogonal Frequency Division Multiplexing (OFDM)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ransmits more data, more reliably</a:t>
            </a: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Multi-channel modulation sends a lot of information in a short tim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Higher data rate means greater bandwidth utilization due to reduced on-air time per transmission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orporates Forward Error Correction (FEC) to increase transmission accuracy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uperior multipath tolerance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Over 10x greater tolerance to reflected signals than 802.11b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800 ns delay tolerance for 802.11a vs. 65 ns for 802.11b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Increases reliability in challenging environments (offices, warehouses, residences, etc.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4052880" y="1155600"/>
            <a:ext cx="4938840" cy="4418280"/>
            <a:chOff x="4052880" y="1155600"/>
            <a:chExt cx="4938840" cy="4418280"/>
          </a:xfrm>
        </p:grpSpPr>
        <p:pic>
          <p:nvPicPr>
            <p:cNvPr id="292" name="!blonde" descr=""/>
            <p:cNvPicPr/>
            <p:nvPr/>
          </p:nvPicPr>
          <p:blipFill>
            <a:blip r:embed="rId1"/>
            <a:stretch/>
          </p:blipFill>
          <p:spPr>
            <a:xfrm>
              <a:off x="6318360" y="3594240"/>
              <a:ext cx="1738440" cy="171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kidslaptop" descr=""/>
            <p:cNvPicPr/>
            <p:nvPr/>
          </p:nvPicPr>
          <p:blipFill>
            <a:blip r:embed="rId2"/>
            <a:stretch/>
          </p:blipFill>
          <p:spPr>
            <a:xfrm>
              <a:off x="6000840" y="1155600"/>
              <a:ext cx="2990880" cy="199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Manso" descr=""/>
            <p:cNvPicPr/>
            <p:nvPr/>
          </p:nvPicPr>
          <p:blipFill>
            <a:blip r:embed="rId3"/>
            <a:stretch/>
          </p:blipFill>
          <p:spPr>
            <a:xfrm>
              <a:off x="5124600" y="2489040"/>
              <a:ext cx="1560600" cy="15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Couple%20front%20cmyk" descr=""/>
            <p:cNvPicPr/>
            <p:nvPr/>
          </p:nvPicPr>
          <p:blipFill>
            <a:blip r:embed="rId4"/>
            <a:stretch/>
          </p:blipFill>
          <p:spPr>
            <a:xfrm>
              <a:off x="4052880" y="3884760"/>
              <a:ext cx="2078280" cy="168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88560" y="2057400"/>
            <a:ext cx="6986520" cy="67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Impact"/>
              </a:rPr>
              <a:t>Thank you!</a:t>
            </a:r>
            <a:br>
              <a:rPr sz="4000"/>
            </a:br>
            <a:br>
              <a:rPr sz="4000"/>
            </a:b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en Haa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rector of Product Marketing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oxim Inc.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haase@proxim.co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ww.proxim.com</a:t>
            </a:r>
            <a:br>
              <a:rPr sz="2800"/>
            </a:br>
            <a:br>
              <a:rPr sz="2800"/>
            </a:br>
            <a:br>
              <a:rPr sz="1400"/>
            </a:b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7200" y="1295280"/>
            <a:ext cx="8242200" cy="4851360"/>
          </a:xfrm>
          <a:prstGeom prst="ellipse">
            <a:avLst/>
          </a:prstGeom>
          <a:gradFill rotWithShape="0">
            <a:gsLst>
              <a:gs pos="0">
                <a:srgbClr val="66ffff"/>
              </a:gs>
              <a:gs pos="100000">
                <a:srgbClr val="ff0066"/>
              </a:gs>
            </a:gsLst>
            <a:lin ang="8100000"/>
          </a:gra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7960" y="330120"/>
            <a:ext cx="864900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144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Impact"/>
              </a:rPr>
              <a:t>Wireless Data “Standards” Alphabet Soup</a:t>
            </a:r>
            <a:endParaRPr b="0" lang="en-US" sz="32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90" name=""/>
          <p:cNvSpPr/>
          <p:nvPr/>
        </p:nvSpPr>
        <p:spPr>
          <a:xfrm>
            <a:off x="1849680" y="185580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7080" y="18432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17080" y="1830240"/>
            <a:ext cx="88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36040" y="181764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95800" y="27068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F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4440" y="264312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0480" y="2681280"/>
            <a:ext cx="10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Ai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76560" y="337968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meR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34960" y="337968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19680" y="3354480"/>
            <a:ext cx="86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P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72880" y="33796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a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10120" y="407844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I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97160" y="3989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S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30280" y="4040280"/>
            <a:ext cx="4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3480" y="46116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D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2600" y="462456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42960" y="4599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360" y="4560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41.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5400" y="51832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95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5440" y="520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perLAN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3320" y="5170320"/>
            <a:ext cx="10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1b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5 GHz Frequency Band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244520"/>
            <a:ext cx="8128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Referred to in U.S. as Unlicensed National Information Infrastructure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(U-NII)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vided into three (3) sub-band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Proxim to support low- and mid-band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Low-band (5.15 - 5.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Mid-band (5.25 - 5.3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ff9933"/>
              </a:buClr>
              <a:buSzPct val="9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Narrow"/>
              </a:rPr>
              <a:t>High-band (5.725 - 5.825 GHz)</a:t>
            </a:r>
            <a:endParaRPr b="0" lang="en-US" sz="16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ifferent output power limits and antenna type limitations in each band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802.11a presently certifiable in FCC-based regions and Japan (specific frequency range)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Europe 5 GHz band currently reserved for HiperLAN/2-compliant products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788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 Narrow"/>
              </a:rPr>
              <a:t>Coordination efforts underway between standards and regulatory bodies to certify 802.11a in Europe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51792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Unlicensed 5GHz Spectr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03440" y="1577880"/>
          <a:ext cx="7905600" cy="27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3440" y="1577880"/>
                    <a:ext cx="7905600" cy="27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 rot="5400000">
            <a:off x="2628360" y="3860640"/>
            <a:ext cx="203040" cy="1536840"/>
          </a:xfrm>
          <a:custGeom>
            <a:avLst/>
            <a:gdLst>
              <a:gd name="textAreaLeft" fmla="*/ 0 w 203040"/>
              <a:gd name="textAreaRight" fmla="*/ 73440 w 203040"/>
              <a:gd name="textAreaTop" fmla="*/ 39960 h 1536840"/>
              <a:gd name="textAreaBottom" fmla="*/ 1496880 h 1536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13480" y="4733280"/>
            <a:ext cx="142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gral antennas only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55880" y="4089240"/>
            <a:ext cx="0" cy="368640"/>
          </a:xfrm>
          <a:prstGeom prst="line">
            <a:avLst/>
          </a:prstGeom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Performance </a:t>
            </a:r>
            <a:br>
              <a:rPr sz="3600"/>
            </a:br>
            <a:r>
              <a:rPr b="0" i="1" lang="en-US" sz="2800" spc="-1" strike="noStrike">
                <a:solidFill>
                  <a:srgbClr val="ff9933"/>
                </a:solidFill>
                <a:latin typeface="Impact"/>
              </a:rPr>
              <a:t>Interference Free 5Ghz - A Clean Ban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257440" y="2585880"/>
            <a:ext cx="3505320" cy="18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interference from microwave ovens, Bluetooth, legacy wireless LANs or cordless phone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22" name=""/>
          <p:cNvSpPr/>
          <p:nvPr/>
        </p:nvSpPr>
        <p:spPr>
          <a:xfrm>
            <a:off x="1243080" y="4970520"/>
            <a:ext cx="352116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5920" y="5107320"/>
            <a:ext cx="83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4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73360" y="4726080"/>
            <a:ext cx="114120" cy="46044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25640" y="4721400"/>
            <a:ext cx="114480" cy="460080"/>
          </a:xfrm>
          <a:prstGeom prst="parallelogram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16680" y="5117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 GHz</a:t>
            </a:r>
            <a:endParaRPr b="0" lang="en-US" sz="1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57480" y="435492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Bluetooth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4800" y="3615120"/>
            <a:ext cx="147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Microwave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 Ove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6720" y="2873880"/>
            <a:ext cx="186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DS and FH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Wireless LAN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97880" y="2102400"/>
            <a:ext cx="1211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Cordless</a:t>
            </a:r>
            <a:br>
              <a:rPr sz="2000"/>
            </a:br>
            <a:r>
              <a:rPr b="0" lang="en-US" sz="2000" spc="-1" strike="noStrike">
                <a:solidFill>
                  <a:srgbClr val="3333ff"/>
                </a:solidFill>
                <a:latin typeface="Tahoma"/>
              </a:rPr>
              <a:t>phon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 rot="5400000">
            <a:off x="2544120" y="3030480"/>
            <a:ext cx="2616120" cy="647640"/>
          </a:xfrm>
          <a:prstGeom prst="rect">
            <a:avLst/>
          </a:prstGeom>
        </p:spPr>
        <p:txBody>
          <a:bodyPr wrap="none" lIns="90000" rIns="90000" tIns="46800" bIns="46800" anchor="ctr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</a:rPr>
              <a:t>Clean Ai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HiperLAN/2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ETSI 5 GHz Wireless  Standard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,  OFDM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 54 Mbps, with fallback rates from 36 to 6 Mbp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Efficiency exceeds 50% with small number of users, but declines due to scheduling overhead for large number of users.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Worldwide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DM based QOS architecture good for distribution of high quality video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reduces interference between multiple access points.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Transmit Power Control adjusts power to lowest level needed for link qua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orldwide certifiability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-33984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No products in the marke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-2426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Few developers, no broad support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800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3984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Impact"/>
              </a:rPr>
              <a:t>HiperLAN2 Appears To Be Losing Momentum</a:t>
            </a:r>
            <a:endParaRPr b="0" lang="en-US" sz="36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HiperLAN2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-12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 Narrow"/>
              </a:rPr>
              <a:t>http://news.zdnet.co.uk/story/0,,t284-s2101101,00.htm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Ericsson, one of the leaders of the HiperLAN movement, has pulled out of that effort, effectively signalling its demise before products came to the market in any serious way. 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 Narrow"/>
              </a:rPr>
              <a:t>"We see the market as moving to 802.11a. Our focus is on 802.11a now," said an Ericsson spokesman.”</a:t>
            </a: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 Narrow"/>
              </a:rPr>
              <a:t>Is this the end of HiperLAN2?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03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IEEE 802.11a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The NEXT  Enterprise Wireless LAN Winner 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Spectrum:  5 GHz;   OFDM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Channels:  12 non-overlapping (4 in each of three bands)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Data Rates: 54 Mbps standard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Proxim 2X mode: 108 Mbps</a:t>
            </a:r>
            <a:r>
              <a:rPr b="0" lang="en-US" sz="2000" spc="-1" strike="noStrike">
                <a:solidFill>
                  <a:srgbClr val="333399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Throughput:    23 Mbps @ 54 Mbps standard rate                       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34 Mbps @ Proxim 108 Mbps rat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Certifiability:  US and Japan; 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urope will be addressed through 802 .11h proposal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85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Benefit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Wireless can compete in speed/capacity with wired solution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Avoids interference from microwave ovens, cordless phones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-311760">
              <a:lnSpc>
                <a:spcPct val="70000"/>
              </a:lnSpc>
              <a:spcBef>
                <a:spcPts val="1049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Narrow"/>
              </a:rPr>
              <a:t>Issues</a:t>
            </a: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  <a:p>
            <a:pPr lvl="1" marL="623880" indent="-222840">
              <a:lnSpc>
                <a:spcPct val="70000"/>
              </a:lnSpc>
              <a:spcBef>
                <a:spcPts val="876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Dynamic Frequency Selection and Transmit Power Control must be added to sell products in Europe</a:t>
            </a:r>
            <a:endParaRPr b="0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117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158920" y="3214800"/>
          <a:ext cx="5156280" cy="314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3214800"/>
                    <a:ext cx="5156280" cy="31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83920" y="304920"/>
            <a:ext cx="855972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Impact"/>
              </a:rPr>
              <a:t>All the Speed you Need</a:t>
            </a:r>
            <a:br>
              <a:rPr sz="3600"/>
            </a:br>
            <a:r>
              <a:rPr b="0" i="1" lang="en-US" sz="2800" spc="-1" strike="noStrike">
                <a:solidFill>
                  <a:srgbClr val="ff9900"/>
                </a:solidFill>
                <a:latin typeface="Impact"/>
              </a:rPr>
              <a:t>802.11a Fast Wireless Ethernet</a:t>
            </a:r>
            <a:endParaRPr b="0" lang="en-US" sz="2800" spc="-1" strike="noStrike">
              <a:solidFill>
                <a:srgbClr val="333399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88520" y="1155600"/>
            <a:ext cx="8629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Up to 100 Mbps wireless networking in conference rooms, classrooms, public hot-spot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Selectable between 802.11a mode for interoperability up to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54 Mbps, and 2X for data rates up to 108 Mbps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marL="399960" indent="-399960">
              <a:lnSpc>
                <a:spcPct val="85000"/>
              </a:lnSpc>
              <a:spcBef>
                <a:spcPts val="876"/>
              </a:spcBef>
              <a:buClr>
                <a:srgbClr val="ff9933"/>
              </a:buClr>
              <a:buSzPct val="12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 Narrow"/>
              </a:rPr>
              <a:t>Example usage scenario:</a:t>
            </a:r>
            <a:endParaRPr b="1" lang="en-US" sz="2000" spc="-1" strike="noStrike">
              <a:solidFill>
                <a:srgbClr val="333399"/>
              </a:solidFill>
              <a:latin typeface="Arial Narrow"/>
            </a:endParaRPr>
          </a:p>
          <a:p>
            <a:pPr lvl="1" marL="800280" indent="-285840">
              <a:lnSpc>
                <a:spcPct val="85000"/>
              </a:lnSpc>
              <a:spcBef>
                <a:spcPts val="612"/>
              </a:spcBef>
              <a:buClr>
                <a:srgbClr val="ff9933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Narrow"/>
              </a:rPr>
              <a:t>Two high-quality video streams (~10 Mbps) + Four high-quality audio streams (~1 Mbps) + ~14 Mbps for data</a:t>
            </a:r>
            <a:endParaRPr b="0" lang="en-US" sz="1400" spc="-1" strike="noStrike">
              <a:solidFill>
                <a:srgbClr val="333399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1571400" y="3825000"/>
            <a:ext cx="73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a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66000" y="50317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9160" y="38012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84520" y="37886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8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87520" y="5077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5960" y="3359160"/>
            <a:ext cx="1092240" cy="431640"/>
          </a:xfrm>
          <a:prstGeom prst="wedgeRectCallout">
            <a:avLst>
              <a:gd name="adj1" fmla="val -138083"/>
              <a:gd name="adj2" fmla="val 84560"/>
            </a:avLst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xim 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X mode</a:t>
            </a:r>
            <a:endParaRPr b="0" lang="en-US" sz="1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7T16:06:58Z</dcterms:created>
  <dc:creator>Lynn Chroust</dc:creator>
  <dc:description/>
  <cp:keywords>AP-III</cp:keywords>
  <dc:language>en-US</dc:language>
  <cp:lastModifiedBy>Ken Haase</cp:lastModifiedBy>
  <cp:lastPrinted>2001-10-25T18:06:09Z</cp:lastPrinted>
  <dcterms:modified xsi:type="dcterms:W3CDTF">2002-02-09T21:36:31Z</dcterms:modified>
  <cp:revision>57</cp:revision>
  <dc:subject>AP-III</dc:subject>
  <dc:title>In-Building Wireless: Current In-Building Wireless Connectivity and Future Standards</dc:title>
</cp:coreProperties>
</file>