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F0C9-CC50-4686-8CE4-F3F3DC7B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D491-9F42-41A6-88E7-A6910A71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2D79-EBA2-4F06-9075-2A04A4F9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6F97-DD13-4C5F-9182-2B26F2FB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BAF6-AB30-4AFB-BCD1-B7A33888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E711-4AFC-4017-9D8E-AC0ED75F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932F-B26B-437C-9E2D-A7792C98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F234-37E2-4F42-BD84-5183C199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DF7F-401E-4064-B278-76E7E82F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25E3-8ADA-469E-89E7-2816AE64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1E4B-0A3A-42CB-A577-3A696048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6885-3951-4B35-BA1B-1638963C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95A2-0943-4E4F-B0EB-A8C3AA06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25F0-F282-4E85-9F07-AC545528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8572-11A0-43F8-BF45-72C9F18D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D989-362F-4198-8CD4-8DF406DD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6086-F7C5-4573-AB19-86AE33FA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B8D5-6E1E-4CB4-9611-C128AFC9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0EA1-8A67-4373-A2B4-35B8B2A6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F58E-1A69-4BB1-8236-AF8F0BD1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660B-5749-41EC-9DBB-FB38494D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EBE2-02ED-4591-B83B-C7A1FDA2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6CD5-CCBA-414F-87C3-B5D27EC7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E7E0-1B58-457A-8691-C864774F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0BF9-A4F4-45B9-9705-85D551EC43B7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779B-C4B0-477B-8EFA-EEB82BA79DD0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Prime Companies Inc.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Broadband Wireless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        World  Forum 2002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3809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February 12-14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Anaheim, California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6668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2743200"/>
            <a:ext cx="2727360" cy="3278160"/>
            <a:chOff x="5791320" y="2743200"/>
            <a:chExt cx="2727360" cy="32781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2743200"/>
              <a:ext cx="272736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5791320" y="2743200"/>
              <a:ext cx="2727360" cy="327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6699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E9A5-28E1-468D-BF62-A658F37815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lect manufacturer and proper equip’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hroughput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echnolog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is the growth potential?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umber of customers per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ub/per sector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services can be provided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ow and later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Focus on equipment pricing-most   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articularly CPE pricing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AB0-CBAF-4242-8D57-DD075BC3EC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frequencies to be used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LMDS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5.8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2.4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ment method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point requirement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multipoint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equipment hardware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D135-AD55-44E1-9A11-7588785DC7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Preorder required bandwidth to POP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T1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S3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Use right equipment for right application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Is ATM required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143A-5FE8-4CED-A788-9DFB67DC10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MDS" descr=""/>
          <p:cNvPicPr/>
          <p:nvPr/>
        </p:nvPicPr>
        <p:blipFill>
          <a:blip r:embed="rId1"/>
          <a:srcRect l="0" t="7245" r="0" b="15396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90DF-3096-4B86-AFDD-E735E8468C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reate Allianc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Join Chambers of Commerc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(C of C) become your advocat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cquaint yourself with Economic Development Agenci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ovide live training sessions to the business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AF81-E38F-47B4-9A79-9EE6ABBE5B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learly define the benefits of your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Educate your prospective customers on what E-commerce means to them and their busines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Be conscious that your prospective customers are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starving but they are not hungry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B964-5BA4-4CBB-982D-F1043EB1E5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does net speed mean to your customers business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how your customer how speed can save them money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ugment your horizons, serve both business as well as your residential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Keep in focus that business has a different requirement than the residential customer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97D3-D4AA-4060-BBEE-8D340E500B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 the fact that in general the residential consumer has minimal impact on bandwidth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ame bandwidth can serve both the business as well as the residential consumer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Business uses net usually 8-5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esidence uses net usually 7-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7A54-0FA5-4E35-BE9B-B69A11926E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?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not accept anything other than reality. Be a realist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ke extensive use of the pre-subscription process to assure yourself that you have custom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and when possible create alliances with manufactur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nufacturers are also going through tough time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C77E-58CB-437B-9970-1A6C9FB0D3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mmunicate with your congressional representatives.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ell them on your pla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support you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Look for governmental low interest loan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Remember today what counts is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PROFIT</a:t>
            </a: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EF86-4553-469B-8143-AF17E28414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Strategies Of Deploying Wireless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Broadband Utilizing LMDS,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Unlicensed Bandwidth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(5.8 GHZ and 2.4 GHZ)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88620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esented By Norbert J. Lima           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  President and CEO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ime Companies Incorporated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B8A4-E71A-4980-8CEE-1B75B41573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istory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participated in the 1999 LMDS auction in the U.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was successful in acquiring 8 LMDS “A” licens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Geographically speaking, these licenses range from western Pennsylvania going in a northerly direction all the way into the state of new York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2F4C-7030-4801-94F8-D331ECA98D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Goal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trategic and cost effective deployment of broadband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rve all economically feasible markets- both in secondary and tertiary market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32FC-0D3E-4CED-9ACE-3C9D0816B5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of Getting Started</a:t>
            </a:r>
            <a:br>
              <a:rPr sz="3600"/>
            </a:b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a business plan with reasonable and realistic expectations, and follow your business plan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services do you intend to deploy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igh speed internet connectivity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deo conferencin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rtual private networks (VPN’s)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Point to point data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ial ton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9D56-E3B5-4F1A-8462-F76D7120F8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Which service offering, or package of services do you intend to provide first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9397-2920-460D-A522-F5A63E61E4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ations before defining market deploymen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marketing studie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Understand your market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 and customer needs/want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Obtain pre-subscriptio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Is bandwidth available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Negotiate for bandwidth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F0ED-02BD-4896-BF1F-5A78E6E13E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onsiderations before defining (con’t)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market makeup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Building siz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Avg number of customers per bld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ow many sectors are req. to provide svc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price points for services to be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ed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xplore terms of rooftop usag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B83C-00D2-4313-A365-A6CAB18EB5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ich market to deploy first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competition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bandwidth availability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DSL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location of deployment hub site!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radio/hub site readily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manufacturers’ equipment do you us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o you have pre-subscriptions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3F29-A92B-429A-942F-B97D0DC739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8:15:46Z</dcterms:created>
  <dc:creator>sondra</dc:creator>
  <dc:description/>
  <dc:language>en-US</dc:language>
  <cp:lastModifiedBy>sondra</cp:lastModifiedBy>
  <dcterms:modified xsi:type="dcterms:W3CDTF">2002-02-08T17:04:38Z</dcterms:modified>
  <cp:revision>83</cp:revision>
  <dc:subject/>
  <dc:title>PowerPoint Presentation</dc:title>
</cp:coreProperties>
</file>