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E0AF2-0903-4C5E-8665-16BC4FE0B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3511D-A38B-4B9B-8C10-210838A4F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5F917-1545-4A4F-A7B7-2EADE8EC37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D3643-91D8-4701-8D83-BAED3BD5D9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24C3B-BB8F-40A3-8C0A-C5CBED258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90EC4-1EFD-4608-B81D-43AFD6434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95CFA-5647-450B-94FA-5014BBDF9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1E885-ECF1-4E4F-8CFB-6151E0210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B0F7C-6F97-4B1A-A63B-027B0B92F9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1AAB6-9BEE-42D4-93C9-0F7FA8B9D4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F4B34-FE0A-4A39-9C41-E9296E06F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86E03-6E87-4704-939B-1710778AF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1120" y="6315120"/>
            <a:ext cx="7778520" cy="74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339960"/>
            <a:ext cx="289584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622920" y="6491160"/>
            <a:ext cx="179712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9667-1F98-48F6-9874-87076732FFCB}" type="slidenum">
              <a:rPr b="0" i="1" lang="en-US" sz="1200" spc="-1" strike="noStrike">
                <a:solidFill>
                  <a:srgbClr val="3366cc"/>
                </a:solidFill>
                <a:latin typeface="Arial Condense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433440" y="687240"/>
            <a:ext cx="84240" cy="3316320"/>
            <a:chOff x="433440" y="687240"/>
            <a:chExt cx="84240" cy="3316320"/>
          </a:xfrm>
        </p:grpSpPr>
        <p:sp>
          <p:nvSpPr>
            <p:cNvPr id="8" name=""/>
            <p:cNvSpPr/>
            <p:nvPr/>
          </p:nvSpPr>
          <p:spPr>
            <a:xfrm rot="16200000">
              <a:off x="-1176840" y="2307240"/>
              <a:ext cx="3314880" cy="7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433440" y="692280"/>
              <a:ext cx="0" cy="33112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565200" y="1187280"/>
            <a:ext cx="780408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Logo%20med" descr=""/>
          <p:cNvPicPr/>
          <p:nvPr/>
        </p:nvPicPr>
        <p:blipFill>
          <a:blip r:embed="rId2"/>
          <a:stretch/>
        </p:blipFill>
        <p:spPr>
          <a:xfrm>
            <a:off x="7310520" y="309600"/>
            <a:ext cx="1442880" cy="56196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596880" y="64371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647800"/>
            <a:ext cx="77724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3"/>
          </p:nvPr>
        </p:nvSpPr>
        <p:spPr>
          <a:xfrm>
            <a:off x="3117600" y="6324480"/>
            <a:ext cx="2895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1120" y="2540160"/>
            <a:ext cx="7778520" cy="745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%20med" descr=""/>
          <p:cNvPicPr/>
          <p:nvPr/>
        </p:nvPicPr>
        <p:blipFill>
          <a:blip r:embed="rId2"/>
          <a:stretch/>
        </p:blipFill>
        <p:spPr>
          <a:xfrm>
            <a:off x="6138720" y="254160"/>
            <a:ext cx="2262240" cy="880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6880" y="6437160"/>
            <a:ext cx="307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5744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 Black"/>
              </a:rPr>
              <a:t>Non Line-of-Sight in Microwave Bands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1160" y="4235040"/>
            <a:ext cx="640080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Palatino"/>
              </a:rPr>
              <a:t>Multicell Network Architectur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Metro Coverage Design Exampl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3000" y="1277640"/>
            <a:ext cx="34542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ctorized cellular layou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quirements m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LOS cover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requency reus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r this mark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e existing sit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o new construc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70520" y="1278000"/>
            <a:ext cx="4279680" cy="49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9C25B-D132-4562-9BB5-E28CA129E7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Cellular Reuse Analysi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08160" y="1328760"/>
            <a:ext cx="2946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 RF channels, scalable cellular coverage &amp; 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-building, user installable CP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ell area &gt; PC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ost users capable of higher-order modula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68160" y="1332000"/>
          <a:ext cx="5000760" cy="42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332000"/>
                    <a:ext cx="5000760" cy="42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330560" y="520524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587600" y="4673160"/>
            <a:ext cx="35568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155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273400" y="4203720"/>
            <a:ext cx="8892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761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755440" y="3530160"/>
            <a:ext cx="1652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9B3CC-0D6E-4388-8305-3FD5EF8C66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Adaptive Modulation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1104840" y="1270080"/>
            <a:ext cx="756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27280" y="1422360"/>
          <a:ext cx="6210360" cy="2282760"/>
        </p:xfrm>
        <a:graphic>
          <a:graphicData uri="http://schemas.openxmlformats.org/drawingml/2006/table">
            <a:tbl>
              <a:tblPr/>
              <a:tblGrid>
                <a:gridCol w="1000080"/>
                <a:gridCol w="1222200"/>
                <a:gridCol w="1339920"/>
                <a:gridCol w="1487520"/>
                <a:gridCol w="1160640"/>
              </a:tblGrid>
              <a:tr h="100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OFDM Subcarrier Modulations Suppor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Average available transmit rate, bps/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QP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16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64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Down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Up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1480" y="4406760"/>
            <a:ext cx="711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20880" y="3889440"/>
            <a:ext cx="689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NLOS C/(N+I) analys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% capacity increase with two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% capacity increase with three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0960" y="3249720"/>
            <a:ext cx="41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2DEF5-ECCF-4EAE-99E1-5C44F19F83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 Black"/>
              </a:rPr>
              <a:t>Multiple Access with NLOS OFDM</a:t>
            </a:r>
            <a:endParaRPr b="0" lang="en-US" sz="2400" spc="-1" strike="noStrike">
              <a:solidFill>
                <a:srgbClr val="3366cc"/>
              </a:solidFill>
              <a:latin typeface="Arial Blac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483000" y="1641600"/>
          <a:ext cx="5124600" cy="32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3000" y="1641600"/>
                    <a:ext cx="512460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8960" y="1645920"/>
            <a:ext cx="283212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overhead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-switched,      random acces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utilization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llent stability in bursty data traffi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1E419-B039-4259-A6E0-5E8948A7F0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OFDM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7800" y="12902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FDM advant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mple equalization, no ISI in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atural fit for NLO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orts adaptive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reless wide-area OFDM syste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, LAN-lik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actical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CP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9FB79-9B98-485F-A647-B060FE9AE1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ntact Informati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extNet Wireless,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9555 James Ave. South, Suite 270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inneapolis, MN 55431  US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ww.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hone: 952-929-4008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-mail: info@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5FE79-AC5B-41D1-92C6-F9EE701FE7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Second Generation Goal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on–line of sight (NLOS)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ach all customers in coverage are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subscriber equipmen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roadband wide-area net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throughput &amp; multipl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 for residential and business u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fficient Frequency Reuse - Bits / Hz / Acre / $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lexible system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2AF53-4D50-487D-B738-23F916A444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roughput /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performance with low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le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lay spread –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LOS oper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mplexity and cos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45BFA-11C1-4234-9B32-729771AB01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own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13B8C-F39B-4856-AD52-A908ECA5FD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16400" y="151776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NLOS Throughput vs. Distanc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3600" y="1303200"/>
            <a:ext cx="318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gulator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ath lo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per bound for throughput varies with distance from 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"/>
          <p:cNvSpPr/>
          <p:nvPr/>
        </p:nvSpPr>
        <p:spPr>
          <a:xfrm>
            <a:off x="4855680" y="2278080"/>
            <a:ext cx="11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0120" y="4286160"/>
            <a:ext cx="152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43520" y="263988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DM &amp; 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8840" y="44308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27560" y="132408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urban Path Loss Mode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81829-51FC-4BEB-BB24-AD261083E5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35160" y="1467000"/>
            <a:ext cx="5651640" cy="4190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Capacity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77800" y="1315800"/>
            <a:ext cx="30988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 capacity a function of cell size,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sign choices lead to different capacity and coverage characteristic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2" name=""/>
          <p:cNvSpPr/>
          <p:nvPr/>
        </p:nvSpPr>
        <p:spPr>
          <a:xfrm>
            <a:off x="5205960" y="212724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/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95240" y="3765600"/>
            <a:ext cx="95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14244-7AF7-4697-A8F5-3187651E1A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7800" y="4809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</a:t>
            </a:r>
            <a:br>
              <a:rPr sz="3200"/>
            </a:b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verage/Capacity Comparis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211400" y="1943280"/>
            <a:ext cx="670860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89240" y="2043000"/>
            <a:ext cx="6200640" cy="38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4400" y="3822840"/>
            <a:ext cx="317988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06840" y="3935520"/>
            <a:ext cx="193500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543640" y="2238480"/>
            <a:ext cx="204768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162480" y="2224080"/>
            <a:ext cx="176364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09600" y="2227320"/>
            <a:ext cx="17766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90680" y="2238480"/>
            <a:ext cx="2217600" cy="18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5240" y="1581120"/>
            <a:ext cx="0" cy="339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6080" y="1582560"/>
            <a:ext cx="0" cy="59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9840" y="144144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32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1582560"/>
            <a:ext cx="1000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438000" y="1582560"/>
            <a:ext cx="1140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13320" y="4191120"/>
            <a:ext cx="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984400" y="419220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09920" y="456552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- 2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1320" y="4851360"/>
            <a:ext cx="11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– 3.5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984040" y="49798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32440" y="497988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614840" y="47070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1760" y="470700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6440" y="206388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7800" y="394956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30440" y="2076480"/>
            <a:ext cx="14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97280" y="3962520"/>
            <a:ext cx="9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21240" y="3962520"/>
            <a:ext cx="9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076480"/>
            <a:ext cx="10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2560" y="5761080"/>
            <a:ext cx="2541600" cy="517680"/>
            <a:chOff x="682560" y="5761080"/>
            <a:chExt cx="2541600" cy="517680"/>
          </a:xfrm>
        </p:grpSpPr>
        <p:grpSp>
          <p:nvGrpSpPr>
            <p:cNvPr id="143" name=""/>
            <p:cNvGrpSpPr/>
            <p:nvPr/>
          </p:nvGrpSpPr>
          <p:grpSpPr>
            <a:xfrm>
              <a:off x="682560" y="5761080"/>
              <a:ext cx="2541600" cy="276480"/>
              <a:chOff x="682560" y="5761080"/>
              <a:chExt cx="2541600" cy="276480"/>
            </a:xfrm>
          </p:grpSpPr>
          <p:sp>
            <p:nvSpPr>
              <p:cNvPr id="144" name=""/>
              <p:cNvSpPr/>
              <p:nvPr/>
            </p:nvSpPr>
            <p:spPr>
              <a:xfrm>
                <a:off x="682560" y="5829480"/>
                <a:ext cx="317520" cy="150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09800" y="5761080"/>
                <a:ext cx="2214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Directional 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95520" y="6002280"/>
              <a:ext cx="2210760" cy="276480"/>
              <a:chOff x="695520" y="6002280"/>
              <a:chExt cx="2210760" cy="276480"/>
            </a:xfrm>
          </p:grpSpPr>
          <p:sp>
            <p:nvSpPr>
              <p:cNvPr id="147" name=""/>
              <p:cNvSpPr/>
              <p:nvPr/>
            </p:nvSpPr>
            <p:spPr>
              <a:xfrm>
                <a:off x="695520" y="6070320"/>
                <a:ext cx="317160" cy="150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022400" y="6002280"/>
                <a:ext cx="1883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Omni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5197320" y="5456160"/>
            <a:ext cx="20923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h Throughput (D/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/ .870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470 / .213 Mb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00720" y="1905120"/>
            <a:ext cx="139680" cy="349200"/>
          </a:xfrm>
          <a:prstGeom prst="can">
            <a:avLst>
              <a:gd name="adj" fmla="val 12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57440" y="5481720"/>
            <a:ext cx="167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3520" y="1428840"/>
            <a:ext cx="18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 Antennas (52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659480" y="1552320"/>
            <a:ext cx="58572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20680" y="2228760"/>
            <a:ext cx="0" cy="223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0560" y="22226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1480" y="4114800"/>
            <a:ext cx="18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8880" y="4440240"/>
            <a:ext cx="148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ber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DBEE1-7A9E-4898-868B-5E0DD9613F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OFDM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de area NLOS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pectrum Efficienc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ular reuse with limited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access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75A16-256D-42B2-8C7F-5B5753F573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Wide-Area Coverage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7440" y="1277640"/>
            <a:ext cx="35686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mall town/rural syste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0 dBi omni base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3 dBi subscriber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asured link margin for QPSK OFD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Yellow             &gt;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d             15 to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ight blue   10 to 15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Green            5 to 10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398840" y="1697040"/>
            <a:ext cx="3841920" cy="40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614E6-7A88-4908-BE92-6B6211AE50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3:51:25Z</dcterms:created>
  <dc:creator>Eric Dunn</dc:creator>
  <dc:description>Presented at WCA 2002 conference, Jan 2002, San Jose, California</dc:description>
  <dc:language>en-US</dc:language>
  <cp:lastModifiedBy>Property of</cp:lastModifiedBy>
  <cp:lastPrinted>1999-10-14T16:22:24Z</cp:lastPrinted>
  <dcterms:modified xsi:type="dcterms:W3CDTF">2002-02-14T22:00:10Z</dcterms:modified>
  <cp:revision>439</cp:revision>
  <dc:subject/>
  <dc:title>Advantages of OFDM for Mixed Service Second Generation NLOS Broadband Wireless Access</dc:title>
</cp:coreProperties>
</file>