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9840" y="79200"/>
            <a:ext cx="8955000" cy="6640560"/>
            <a:chOff x="69840" y="79200"/>
            <a:chExt cx="8955000" cy="6640560"/>
          </a:xfrm>
        </p:grpSpPr>
        <p:grpSp>
          <p:nvGrpSpPr>
            <p:cNvPr id="1" name=""/>
            <p:cNvGrpSpPr/>
            <p:nvPr/>
          </p:nvGrpSpPr>
          <p:grpSpPr>
            <a:xfrm>
              <a:off x="69840" y="79200"/>
              <a:ext cx="8955000" cy="6640560"/>
              <a:chOff x="69840" y="79200"/>
              <a:chExt cx="8955000" cy="6640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9840" y="79200"/>
                <a:ext cx="1098720" cy="1621080"/>
                <a:chOff x="69840" y="79200"/>
                <a:chExt cx="1098720" cy="16210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69840" y="79200"/>
                  <a:ext cx="1098720" cy="108000"/>
                  <a:chOff x="69840" y="79200"/>
                  <a:chExt cx="1098720" cy="1080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6984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2700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471600" y="7920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67140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"/>
                  <p:cNvSpPr/>
                  <p:nvPr/>
                </p:nvSpPr>
                <p:spPr>
                  <a:xfrm>
                    <a:off x="8715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" name=""/>
                  <p:cNvSpPr/>
                  <p:nvPr/>
                </p:nvSpPr>
                <p:spPr>
                  <a:xfrm>
                    <a:off x="1073160" y="7920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" name=""/>
                <p:cNvGrpSpPr/>
                <p:nvPr/>
              </p:nvGrpSpPr>
              <p:grpSpPr>
                <a:xfrm>
                  <a:off x="76320" y="298440"/>
                  <a:ext cx="1085760" cy="95400"/>
                  <a:chOff x="76320" y="298440"/>
                  <a:chExt cx="1085760" cy="9540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632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761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477720" y="298440"/>
                    <a:ext cx="8100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67788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8780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1079640" y="298440"/>
                    <a:ext cx="82440" cy="9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12600">
                    <a:solidFill>
                      <a:srgbClr val="0000ff"/>
                    </a:solidFill>
                    <a:miter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" name=""/>
                <p:cNvGrpSpPr/>
                <p:nvPr/>
              </p:nvGrpSpPr>
              <p:grpSpPr>
                <a:xfrm>
                  <a:off x="69840" y="509760"/>
                  <a:ext cx="1098720" cy="107640"/>
                  <a:chOff x="69840" y="509760"/>
                  <a:chExt cx="1098720" cy="107640"/>
                </a:xfrm>
              </p:grpSpPr>
              <p:sp>
                <p:nvSpPr>
                  <p:cNvPr id="18" name=""/>
                  <p:cNvSpPr/>
                  <p:nvPr/>
                </p:nvSpPr>
                <p:spPr>
                  <a:xfrm>
                    <a:off x="6984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2700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471600" y="509760"/>
                    <a:ext cx="936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67140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8715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1073160" y="509760"/>
                    <a:ext cx="95400" cy="10764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69840" y="727200"/>
                  <a:ext cx="1098720" cy="108000"/>
                  <a:chOff x="69840" y="727200"/>
                  <a:chExt cx="1098720" cy="1080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>
                    <a:off x="6984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2700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471600" y="727200"/>
                    <a:ext cx="936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67140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8715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1073160" y="727200"/>
                    <a:ext cx="95400" cy="10800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" name=""/>
                <p:cNvGrpSpPr/>
                <p:nvPr/>
              </p:nvGrpSpPr>
              <p:grpSpPr>
                <a:xfrm>
                  <a:off x="69840" y="941400"/>
                  <a:ext cx="1098720" cy="108000"/>
                  <a:chOff x="69840" y="941400"/>
                  <a:chExt cx="1098720" cy="108000"/>
                </a:xfrm>
              </p:grpSpPr>
              <p:sp>
                <p:nvSpPr>
                  <p:cNvPr id="32" name=""/>
                  <p:cNvSpPr/>
                  <p:nvPr/>
                </p:nvSpPr>
                <p:spPr>
                  <a:xfrm>
                    <a:off x="6984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2700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71600" y="94140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67140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8715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1073160" y="94140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" name=""/>
                <p:cNvGrpSpPr/>
                <p:nvPr/>
              </p:nvGrpSpPr>
              <p:grpSpPr>
                <a:xfrm>
                  <a:off x="69840" y="1158840"/>
                  <a:ext cx="1098720" cy="108000"/>
                  <a:chOff x="69840" y="1158840"/>
                  <a:chExt cx="1098720" cy="108000"/>
                </a:xfrm>
              </p:grpSpPr>
              <p:sp>
                <p:nvSpPr>
                  <p:cNvPr id="39" name=""/>
                  <p:cNvSpPr/>
                  <p:nvPr/>
                </p:nvSpPr>
                <p:spPr>
                  <a:xfrm>
                    <a:off x="6984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2700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71600" y="11588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67140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8715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1073160" y="11588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9840" y="1374840"/>
                  <a:ext cx="1098720" cy="108000"/>
                  <a:chOff x="69840" y="1374840"/>
                  <a:chExt cx="1098720" cy="10800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6984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2700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471600" y="137484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67140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8715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1073160" y="137484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" name=""/>
                <p:cNvGrpSpPr/>
                <p:nvPr/>
              </p:nvGrpSpPr>
              <p:grpSpPr>
                <a:xfrm>
                  <a:off x="69840" y="1592280"/>
                  <a:ext cx="1098720" cy="108000"/>
                  <a:chOff x="69840" y="1592280"/>
                  <a:chExt cx="1098720" cy="10800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>
                    <a:off x="6984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700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471600" y="159228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67140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8715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073160" y="159228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9" name=""/>
              <p:cNvGrpSpPr/>
              <p:nvPr/>
            </p:nvGrpSpPr>
            <p:grpSpPr>
              <a:xfrm>
                <a:off x="7927920" y="5099040"/>
                <a:ext cx="1096920" cy="1620720"/>
                <a:chOff x="7927920" y="5099040"/>
                <a:chExt cx="1096920" cy="162072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7927920" y="5099040"/>
                  <a:ext cx="1096920" cy="108000"/>
                  <a:chOff x="7927920" y="5099040"/>
                  <a:chExt cx="1096920" cy="10800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792792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81262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832788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8528040" y="5099040"/>
                    <a:ext cx="954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87296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8931240" y="5099040"/>
                    <a:ext cx="93600" cy="108000"/>
                  </a:xfrm>
                  <a:prstGeom prst="rect">
                    <a:avLst/>
                  </a:prstGeom>
                  <a:solidFill>
                    <a:srgbClr val="8901f3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" name=""/>
                <p:cNvGrpSpPr/>
                <p:nvPr/>
              </p:nvGrpSpPr>
              <p:grpSpPr>
                <a:xfrm>
                  <a:off x="7927920" y="5311800"/>
                  <a:ext cx="1096920" cy="108000"/>
                  <a:chOff x="7927920" y="5311800"/>
                  <a:chExt cx="1096920" cy="10800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92792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1262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32788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8528040" y="5311800"/>
                    <a:ext cx="954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7296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931240" y="5311800"/>
                    <a:ext cx="93600" cy="108000"/>
                  </a:xfrm>
                  <a:prstGeom prst="rect">
                    <a:avLst/>
                  </a:prstGeom>
                  <a:solidFill>
                    <a:srgbClr val="bf5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927920" y="5529240"/>
                  <a:ext cx="1096920" cy="108000"/>
                  <a:chOff x="7927920" y="5529240"/>
                  <a:chExt cx="1096920" cy="10800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792792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1262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2788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528040" y="5529240"/>
                    <a:ext cx="954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7296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931240" y="5529240"/>
                    <a:ext cx="93600" cy="108000"/>
                  </a:xfrm>
                  <a:prstGeom prst="rect">
                    <a:avLst/>
                  </a:prstGeom>
                  <a:solidFill>
                    <a:srgbClr val="df9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" name=""/>
                <p:cNvGrpSpPr/>
                <p:nvPr/>
              </p:nvGrpSpPr>
              <p:grpSpPr>
                <a:xfrm>
                  <a:off x="7927920" y="5746680"/>
                  <a:ext cx="1096920" cy="108000"/>
                  <a:chOff x="7927920" y="5746680"/>
                  <a:chExt cx="1096920" cy="1080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792792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1262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32788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528040" y="5746680"/>
                    <a:ext cx="954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7296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931240" y="5746680"/>
                    <a:ext cx="93600" cy="108000"/>
                  </a:xfrm>
                  <a:prstGeom prst="rect">
                    <a:avLst/>
                  </a:prstGeom>
                  <a:solidFill>
                    <a:srgbClr val="bfd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7927920" y="5961240"/>
                  <a:ext cx="1096920" cy="107640"/>
                  <a:chOff x="7927920" y="5961240"/>
                  <a:chExt cx="1096920" cy="10764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792792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1262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2788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528040" y="5961240"/>
                    <a:ext cx="954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87296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8931240" y="5961240"/>
                    <a:ext cx="93600" cy="107640"/>
                  </a:xfrm>
                  <a:prstGeom prst="rect">
                    <a:avLst/>
                  </a:prstGeom>
                  <a:solidFill>
                    <a:srgbClr val="9fb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927920" y="6178680"/>
                  <a:ext cx="1096920" cy="108000"/>
                  <a:chOff x="7927920" y="6178680"/>
                  <a:chExt cx="1096920" cy="1080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92792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81262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832788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8528040" y="6178680"/>
                    <a:ext cx="954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87296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8931240" y="6178680"/>
                    <a:ext cx="93600" cy="108000"/>
                  </a:xfrm>
                  <a:prstGeom prst="rect">
                    <a:avLst/>
                  </a:prstGeom>
                  <a:solidFill>
                    <a:srgbClr val="3f7f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927920" y="6394320"/>
                  <a:ext cx="1096920" cy="108000"/>
                  <a:chOff x="7927920" y="6394320"/>
                  <a:chExt cx="1096920" cy="10800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792792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81262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832788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528040" y="6394320"/>
                    <a:ext cx="954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87296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931240" y="6394320"/>
                    <a:ext cx="93600" cy="1080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7927920" y="6611760"/>
                  <a:ext cx="1096920" cy="108000"/>
                  <a:chOff x="7927920" y="6611760"/>
                  <a:chExt cx="1096920" cy="10800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792792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81262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832788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8528040" y="6611760"/>
                    <a:ext cx="954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87296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8931240" y="6611760"/>
                    <a:ext cx="93600" cy="10800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  <a:effectLst>
                    <a:outerShdw dist="53966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6" name=""/>
            <p:cNvSpPr/>
            <p:nvPr/>
          </p:nvSpPr>
          <p:spPr>
            <a:xfrm>
              <a:off x="463680" y="482760"/>
              <a:ext cx="8216640" cy="5892480"/>
            </a:xfrm>
            <a:prstGeom prst="rect">
              <a:avLst/>
            </a:prstGeom>
            <a:solidFill>
              <a:srgbClr val="3e67bd"/>
            </a:solidFill>
            <a:ln w="12600">
              <a:solidFill>
                <a:srgbClr val="86a0d7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49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" y="6524640"/>
            <a:ext cx="3375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16240" y="6524640"/>
            <a:ext cx="1351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- </a:t>
            </a:r>
            <a:fld id="{4406126D-B4C3-4905-AD3B-0E39BE3761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Name Service</a:t>
            </a:r>
            <a:br>
              <a:rPr sz="4400"/>
            </a:br>
            <a:br>
              <a:rPr sz="4400"/>
            </a:br>
            <a:r>
              <a:rPr b="0" lang="en-US" sz="4000" spc="-1" strike="noStrike">
                <a:solidFill>
                  <a:srgbClr val="fafd00"/>
                </a:solidFill>
                <a:latin typeface="Times New Roman"/>
              </a:rPr>
              <a:t>Ichwan F.Agu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uter Network Research G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C on Microrelectron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4578480" y="1682640"/>
            <a:ext cx="3873240" cy="3797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Top Level Domain 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mit.e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bm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sa.g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avy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nsf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ampr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other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p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Neth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Ingg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J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ai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omain di Indonesia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 Level 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erapa Sub-Doma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ndidik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Pemerintah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Kom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.i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Lemb. Non Prof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.i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Network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eberapa Konvensi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amaan sub-domain diserahkan sepenuhnya kepada pengelola domain ts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bersifat konsi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pengelola domain bebas menumbuhkan domain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baiknya domain “memberi” art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ile-file yang dibutuhk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tc/named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ecutable fi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 script (default 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.bo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run sebagai “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aem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pr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boot scrip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pada boot scri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19320" y="2381400"/>
          <a:ext cx="610380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81400"/>
                    <a:ext cx="61038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ing-onl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nfigurasi minimal dari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iap query akan diteruskan ke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che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b.c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mary dan Secondary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server “memelihara” langsung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ary server sebagai “image” dari primary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ses updating dengan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merupakan primary dan secondary dari beberapa dom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574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zona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condary &lt;domain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server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mage fil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fafd00"/>
                </a:solidFill>
                <a:latin typeface="Arial"/>
              </a:rPr>
              <a:t>Conto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recto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etc/named.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itb.ac.id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it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e.itb.ac.id 167.205.136.132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lkom.go.id 167.205.136.5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telk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ppt.go.id   202.46.1.2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bp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026040" y="3282840"/>
            <a:ext cx="212112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ppt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30360" y="996840"/>
            <a:ext cx="1892160" cy="189252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kom.go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54240" y="3130560"/>
            <a:ext cx="2121120" cy="19684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9360" y="920880"/>
            <a:ext cx="2120760" cy="1892160"/>
          </a:xfrm>
          <a:prstGeom prst="ellipse">
            <a:avLst/>
          </a:prstGeom>
          <a:solidFill>
            <a:srgbClr val="00dfc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e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560" y="4959360"/>
            <a:ext cx="1663560" cy="1130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4470120" y="2311560"/>
            <a:ext cx="584280" cy="7873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927320" y="2692440"/>
            <a:ext cx="507960" cy="71100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44720" y="2844720"/>
            <a:ext cx="48276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301920" y="2463840"/>
            <a:ext cx="558720" cy="63504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7040" y="3886200"/>
            <a:ext cx="86364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7040" y="441972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488680" y="4292640"/>
            <a:ext cx="584280" cy="63504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489040" y="4902120"/>
            <a:ext cx="965520" cy="101592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0684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11960" y="5486400"/>
            <a:ext cx="787320" cy="0"/>
          </a:xfrm>
          <a:prstGeom prst="line">
            <a:avLst/>
          </a:prstGeom>
          <a:ln w="50760">
            <a:solidFill>
              <a:srgbClr val="ffffff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47600" y="5694480"/>
            <a:ext cx="1045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66160" y="5618160"/>
            <a:ext cx="87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etakan dari IP address ke 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erlukan untuk log file dan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 digunakan sebagai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p Level domai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in-addr.ar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Domain dibentuk dari IP address mulai dari Most Significant Dig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Obyektif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konsep D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pat menjalankan DNS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mpu membuat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prinsip “zona transf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ahami cara setup resolv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ggunakan uitl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slook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everse Domain Tre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327120" y="1778040"/>
            <a:ext cx="1498680" cy="2158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4440" y="16826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92680" y="2825640"/>
            <a:ext cx="21564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273560" y="2292480"/>
            <a:ext cx="216000" cy="21564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61240" y="2036880"/>
            <a:ext cx="91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r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70160" y="2570040"/>
            <a:ext cx="1461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-add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8640" y="2978280"/>
            <a:ext cx="181620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69680" y="2978280"/>
            <a:ext cx="22986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889000" y="2978280"/>
            <a:ext cx="100332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140360" y="3073320"/>
            <a:ext cx="101592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11440" y="3429000"/>
            <a:ext cx="8254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57200" y="310356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6160" y="31798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24280" y="30272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71304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56040" y="4121280"/>
            <a:ext cx="123192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641480" y="4121280"/>
            <a:ext cx="62244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64280" y="4121280"/>
            <a:ext cx="596880" cy="59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59320" y="4140360"/>
            <a:ext cx="1778040" cy="5587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6560" y="4121280"/>
            <a:ext cx="227340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67280" y="493236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1916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7800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94240" y="48610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111640" y="358776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16760" y="4654440"/>
            <a:ext cx="216000" cy="2160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Reverse 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B              167.205.xx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5.167.in-ad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 : Network dengan IP address klas C 196.3.6.xx mempunyai reverse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6.3.196.in-adr.ar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66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eklarasi Reverse Domain Server pada boot 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203832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Format (sbg primary dan secondar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rev_domain&gt; &lt;server&gt;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imary   205.167.in-addr.arpa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.167.205.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condary 1.46.202.in-addr.arpa 202.46.1.2 db.2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ndard Resource Record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Zona File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Stndard Resource Record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of Authority Record (SO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Record (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 Record (M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 Record (CN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 Information Record (H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Known Services Record (W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of Authority (SO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zone] IN SOA origin contact 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fre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r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x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inim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Name Server Record (N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DNS server untuk zona file  (Boleh lebih dari satu ho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domain] IN N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ddress Record (A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P address dari host-host yang terdapat pada zon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Exchanger Record (MX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Mail Server untuk suatu domain ataupun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  IN MX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reference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anonical Name Record (CNAME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alias name untuk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icknam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IN CNAME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285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hy DNS...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81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Alasan dan Kenyat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sia “ingat” nama, komputer kenal ang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jaringan yang cukup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le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ad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entralisasi pemeliharaan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Host Information Record (HINFO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eklarasikan informasi singkat tentang hardware dan sistem operasi dari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HONFO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ardwar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Well Known Services Record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WKS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informasi tentang layanan yang disediakan oleh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hos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WKS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address protocol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ointer to Hostname (PTR)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(Untuk Reverse Domain Server)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 informasi hostname dari IP address suatu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number_in_Clas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] IN PTR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FQD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Konfigurasi Cache Fi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untuk mengakses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99999999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ns.nic.ddn.m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s.nic.ddn.mil 99999999 IN A 192.112.36.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Start DNS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NS server dapat di run apabila boot script dan zona file telah dibuat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Run dari Shel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# named -b /etc/named.bo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Times New Roman"/>
              </a:rPr>
              <a:t>Konfigurasi Resolver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Bagaimana Client mengakses DNS server..?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File </a:t>
            </a:r>
            <a:r>
              <a:rPr b="0" lang="en-US" sz="4000" spc="-1" strike="noStrike">
                <a:solidFill>
                  <a:srgbClr val="fafd00"/>
                </a:solidFill>
                <a:latin typeface="Courier New"/>
              </a:rPr>
              <a:t>/etc/resolv.conf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domain_name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IP_addr_DNS_Sercer&g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ain itb.ac.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 167.205.22.1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NS dan 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Electronic Mail Menggunakan MX Record pada DNS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mengirimkan E-mail ke host yang tidak menjalankan aplikasi Mail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Langkah Pengiriman E-mail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akan mengirim pertama kali ke Mail Server dengan preference terendah (prioritas tertingg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te host dengan preference paling tinggi merupakan prioritas terend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X record dapat digunakan untuk Wide Domain Ali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rinsip Kerja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492880" y="2368440"/>
            <a:ext cx="1092240" cy="1371600"/>
            <a:chOff x="5492880" y="2368440"/>
            <a:chExt cx="1092240" cy="1371600"/>
          </a:xfrm>
        </p:grpSpPr>
        <p:sp>
          <p:nvSpPr>
            <p:cNvPr id="165" name=""/>
            <p:cNvSpPr/>
            <p:nvPr/>
          </p:nvSpPr>
          <p:spPr>
            <a:xfrm>
              <a:off x="5537160" y="241776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92880" y="23684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24360" y="27320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6320" y="29923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835280" y="2368440"/>
            <a:ext cx="3340080" cy="1892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96280" y="4336920"/>
            <a:ext cx="125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NS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56960" y="4572000"/>
            <a:ext cx="702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09920" y="4572000"/>
            <a:ext cx="8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45160" y="2444760"/>
            <a:ext cx="1092240" cy="1371600"/>
            <a:chOff x="5645160" y="2444760"/>
            <a:chExt cx="1092240" cy="1371600"/>
          </a:xfrm>
        </p:grpSpPr>
        <p:sp>
          <p:nvSpPr>
            <p:cNvPr id="174" name=""/>
            <p:cNvSpPr/>
            <p:nvPr/>
          </p:nvSpPr>
          <p:spPr>
            <a:xfrm>
              <a:off x="5689440" y="24940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5160" y="24447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77000" y="28083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8600" y="30686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797440" y="2597040"/>
            <a:ext cx="1092240" cy="1371600"/>
            <a:chOff x="5797440" y="2597040"/>
            <a:chExt cx="1092240" cy="1371600"/>
          </a:xfrm>
        </p:grpSpPr>
        <p:sp>
          <p:nvSpPr>
            <p:cNvPr id="179" name=""/>
            <p:cNvSpPr/>
            <p:nvPr/>
          </p:nvSpPr>
          <p:spPr>
            <a:xfrm>
              <a:off x="5842080" y="2646360"/>
              <a:ext cx="104760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7440" y="259704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29280" y="296064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1240" y="322092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950080" y="2749680"/>
            <a:ext cx="1092240" cy="1371600"/>
            <a:chOff x="5950080" y="2749680"/>
            <a:chExt cx="1092240" cy="1371600"/>
          </a:xfrm>
        </p:grpSpPr>
        <p:sp>
          <p:nvSpPr>
            <p:cNvPr id="184" name=""/>
            <p:cNvSpPr/>
            <p:nvPr/>
          </p:nvSpPr>
          <p:spPr>
            <a:xfrm>
              <a:off x="5994360" y="2798640"/>
              <a:ext cx="1047960" cy="13226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0080" y="274968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81560" y="311292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13520" y="3373560"/>
              <a:ext cx="311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102360" y="2901960"/>
            <a:ext cx="1092240" cy="1371600"/>
            <a:chOff x="6102360" y="2901960"/>
            <a:chExt cx="1092240" cy="1371600"/>
          </a:xfrm>
        </p:grpSpPr>
        <p:sp>
          <p:nvSpPr>
            <p:cNvPr id="189" name=""/>
            <p:cNvSpPr/>
            <p:nvPr/>
          </p:nvSpPr>
          <p:spPr>
            <a:xfrm>
              <a:off x="6146640" y="2951280"/>
              <a:ext cx="1047960" cy="13222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2360" y="2901960"/>
              <a:ext cx="1035000" cy="1309680"/>
            </a:xfrm>
            <a:prstGeom prst="rect">
              <a:avLst/>
            </a:prstGeom>
            <a:solidFill>
              <a:srgbClr val="f7f7f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34200" y="3265560"/>
              <a:ext cx="58428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65800" y="3525840"/>
              <a:ext cx="311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254640" y="3054240"/>
            <a:ext cx="1092240" cy="1371600"/>
            <a:chOff x="6254640" y="3054240"/>
            <a:chExt cx="1092240" cy="1371600"/>
          </a:xfrm>
        </p:grpSpPr>
        <p:sp>
          <p:nvSpPr>
            <p:cNvPr id="194" name=""/>
            <p:cNvSpPr/>
            <p:nvPr/>
          </p:nvSpPr>
          <p:spPr>
            <a:xfrm>
              <a:off x="6299280" y="3103560"/>
              <a:ext cx="1047600" cy="132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54640" y="3054240"/>
              <a:ext cx="1035000" cy="130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86480" y="3417840"/>
              <a:ext cx="584280" cy="34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8440" y="3678120"/>
              <a:ext cx="3110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82840" y="281952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9360" y="2819520"/>
            <a:ext cx="520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870440" y="358128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269880" y="3581280"/>
            <a:ext cx="54612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565160" y="449568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39840" y="4495680"/>
            <a:ext cx="520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87840" y="3422520"/>
            <a:ext cx="710280" cy="57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000b"/>
                </a:solidFill>
                <a:latin typeface="Times New Roman"/>
              </a:rPr>
              <a:t>Serv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16360" y="2597040"/>
            <a:ext cx="1130400" cy="12826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sol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7560" y="2444760"/>
            <a:ext cx="1282680" cy="1587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ontoh Host dengan berbagai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ail Server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ystem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40 mail.bppt.go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 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30 maingtw.itb.ac.i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 I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20 system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tan : Prioritas tertinggi adalah host itu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ir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Utility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tuk mengetahui apakah DNS server dapat berjalan sebagaiman mestinya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shell prom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 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 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Name: itbgtw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es:167.205.22.101,167.205.20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Menggunakan nslookup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ara Interakt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 # nsloo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erver:maingtw.paume.itb.ac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ddress:0.0.0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Pemeliharaan dan Updating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aimana perubahan zona file dapat diupdate oleh secondary server..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ip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SOA diikuti dengan menambah serial numb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nakan beberapa seondary server untuk kehandal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oordinasi dengan Adminintrator DNS lainny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dating roo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nformasi dar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14600" y="1581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onical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l Excha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si Hardw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 Oper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st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3560" y="1530360"/>
            <a:ext cx="440676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1530360"/>
            <a:ext cx="2882880" cy="34164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DNS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DNS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na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named.b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on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65744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d49fff"/>
                </a:solidFill>
                <a:uFillTx/>
                <a:latin typeface="Arial"/>
              </a:rPr>
              <a:t>Resol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/etc/resolv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or /etc/host.con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Implementasi Host Tabl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574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 :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 Penulis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ip_address&gt;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hostname&gt;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cname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oh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/etc/h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3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maingtw.paume.itb.ac.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67.205.22.124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.itb.ac.id.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127.0.0.1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ocal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Alasan penggunaan </a:t>
            </a:r>
            <a:r>
              <a:rPr b="0" lang="en-US" sz="3200" spc="-1" strike="noStrike">
                <a:solidFill>
                  <a:srgbClr val="fafd00"/>
                </a:solidFill>
                <a:latin typeface="Courier New"/>
              </a:rPr>
              <a:t>/etc/host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mlah host pada jaringan sedik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ringan tidak terhubung ke Inter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tc/hos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unakan oleh NIS (pada Su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dak semua host menggunakan UN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5296"/>
            </a:gs>
            <a:gs pos="50000">
              <a:srgbClr val="3e67bd"/>
            </a:gs>
            <a:gs pos="100000">
              <a:srgbClr val="31529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Top Level Domain </a:t>
            </a:r>
            <a:br>
              <a:rPr sz="4400"/>
            </a:b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dan Sub-Domain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sama seperti organisasi pemerintahan (negara, propinsi, kabupat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gelompokan berdasarkan keorganis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hosts mempunyai FQD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QDN terdiri dari hostname dan domai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49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iap domain bisa “tumbuh” menjadi beberapa sub dom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1T00:12:22Z</dcterms:created>
  <dc:creator>Microsoft Corporation</dc:creator>
  <dc:description/>
  <dc:language>en-US</dc:language>
  <cp:lastModifiedBy>Onno W. Purbo</cp:lastModifiedBy>
  <cp:lastPrinted>1995-11-19T14:54:24Z</cp:lastPrinted>
  <dcterms:modified xsi:type="dcterms:W3CDTF">1999-04-19T03:10:55Z</dcterms:modified>
  <cp:revision>30</cp:revision>
  <dc:subject/>
  <dc:title>Domain Name Service</dc:title>
</cp:coreProperties>
</file>