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152360" y="580320"/>
            <a:ext cx="683928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600" y="457200"/>
            <a:ext cx="9142920" cy="6019920"/>
            <a:chOff x="-3600" y="457200"/>
            <a:chExt cx="9142920" cy="6019920"/>
          </a:xfrm>
        </p:grpSpPr>
        <p:grpSp>
          <p:nvGrpSpPr>
            <p:cNvPr id="1" name=""/>
            <p:cNvGrpSpPr/>
            <p:nvPr/>
          </p:nvGrpSpPr>
          <p:grpSpPr>
            <a:xfrm>
              <a:off x="-3600" y="4286160"/>
              <a:ext cx="9142920" cy="1524240"/>
              <a:chOff x="-3600" y="4286160"/>
              <a:chExt cx="9142920" cy="15242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-3600" y="4286160"/>
                <a:ext cx="9139320" cy="0"/>
              </a:xfrm>
              <a:prstGeom prst="line">
                <a:avLst/>
              </a:prstGeom>
              <a:ln w="12600">
                <a:solidFill>
                  <a:srgbClr val="ffde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-3600" y="4438800"/>
                <a:ext cx="9139320" cy="0"/>
              </a:xfrm>
              <a:prstGeom prst="line">
                <a:avLst/>
              </a:prstGeom>
              <a:ln w="12600">
                <a:solidFill>
                  <a:srgbClr val="f5d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-3240" y="4591080"/>
                <a:ext cx="9142560" cy="0"/>
              </a:xfrm>
              <a:prstGeom prst="line">
                <a:avLst/>
              </a:prstGeom>
              <a:ln w="12600">
                <a:solidFill>
                  <a:srgbClr val="fcb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-3240" y="4743360"/>
                <a:ext cx="9142560" cy="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-3240" y="4896000"/>
                <a:ext cx="9142560" cy="0"/>
              </a:xfrm>
              <a:prstGeom prst="line">
                <a:avLst/>
              </a:prstGeom>
              <a:ln w="12600">
                <a:solidFill>
                  <a:srgbClr val="ff7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-3240" y="5048280"/>
                <a:ext cx="9142560" cy="0"/>
              </a:xfrm>
              <a:prstGeom prst="line">
                <a:avLst/>
              </a:prstGeom>
              <a:ln w="12600">
                <a:solidFill>
                  <a:srgbClr val="ff5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-360" y="5200560"/>
                <a:ext cx="9139320" cy="0"/>
              </a:xfrm>
              <a:prstGeom prst="line">
                <a:avLst/>
              </a:prstGeom>
              <a:ln w="12600">
                <a:solidFill>
                  <a:srgbClr val="ff4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-3240" y="5353200"/>
                <a:ext cx="9142560" cy="0"/>
              </a:xfrm>
              <a:prstGeom prst="line">
                <a:avLst/>
              </a:prstGeom>
              <a:ln w="12600">
                <a:solidFill>
                  <a:srgbClr val="dc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-3240" y="5505480"/>
                <a:ext cx="914256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-3240" y="5657760"/>
                <a:ext cx="9142560" cy="0"/>
              </a:xfrm>
              <a:prstGeom prst="line">
                <a:avLst/>
              </a:prstGeom>
              <a:ln w="12600">
                <a:solidFill>
                  <a:srgbClr val="dc0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-3240" y="5810400"/>
                <a:ext cx="914256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" name=""/>
            <p:cNvSpPr/>
            <p:nvPr/>
          </p:nvSpPr>
          <p:spPr>
            <a:xfrm>
              <a:off x="457200" y="457200"/>
              <a:ext cx="8229600" cy="6019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  <a:effectLst>
              <a:outerShdw dist="107932" dir="2700000" blurRad="0" rotWithShape="0">
                <a:srgbClr val="47474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dc008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47120" y="6600960"/>
            <a:ext cx="3096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uter Network Research Group ITB - 199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7758360" y="6583320"/>
            <a:ext cx="125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- </a:t>
            </a:r>
            <a:fld id="{4855650B-1A9B-4915-B59B-45A7B69E46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f2c40"/>
            </a:gs>
            <a:gs pos="50000">
              <a:srgbClr val="e5405d"/>
            </a:gs>
            <a:gs pos="100000">
              <a:srgbClr val="9f2c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7240" y="2477520"/>
            <a:ext cx="7769520" cy="759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</a:rPr>
              <a:t>Penggunaan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khmad Danie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di Nursaso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UC on Microelectron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TB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Personal mail forwarding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lakukan dengan membuat file .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forwar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 berisi alamat tujuan pada home directory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file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.forw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tetih@cnrg.itb.ac.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ile sendmail.c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gsi utam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si sendmail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rewrit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ddress kedalam bentuk yang tepat bagi mailer peneri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address ke instruksi yang diperlukan untuk mengirim 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endapatkan sample file sendmail.c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tp.uu.net mail/sendmail/sendmail.5.65.tar.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Berisi beberapa prototype fi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uucpproto.c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proto.c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ucpproto.c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General sendmail.cf structure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cal Inform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eneral Mac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rsion 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pecial Mac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ssage Prece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at of Head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writing R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il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ule Set Z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chine-dependent Part of Rule Set Z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Konfigura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 Macr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Macro x to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rd1[ word2]..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class c to word1 word2 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Cla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l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ad class c from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Opt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option o to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ser1[ user2...]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rusted users are user1,user2, 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Precedenc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me=numb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name to precedence numb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Mail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ame,{field=value}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mailer 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Head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[?mflag?]name:forma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 header 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et Rulese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rt ruleset number 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ine Rul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dc0081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hs rhs commen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write lhs pattern to rhs forma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Konfigura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12000" y="2279520"/>
            <a:ext cx="4570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3600" spc="-1" strike="noStrike">
                <a:solidFill>
                  <a:srgbClr val="ffde06"/>
                </a:solidFill>
                <a:latin typeface="Courier New"/>
              </a:rPr>
              <a:t>D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cnrg.itb.ac.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520" y="4038120"/>
            <a:ext cx="678204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Macro Comm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 of the Macro being def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lue assigned to the Macr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macro dan  mengisikan nilai padany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berapa macro internal harus didefinisikan, yai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3123720"/>
            <a:ext cx="815364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MTP entry mesag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j Sendmail $v ready at $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te's official ddomain nam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w.$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mat of the UNIX from li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rom $g $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me used in error messag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ILER-DAEM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t of operators in address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:%\@!^=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fault sender address forma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$g$?x ($x)$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3840" y="1960560"/>
            <a:ext cx="2464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ternal Mac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Macro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l macro menggunakan huruf kecil, User-defined macro menggunakan huruf bes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tuk melihat isi dari macro digunakan tanda $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lm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nuts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j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$w.$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onditiona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cro q mengandung conditional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D</a:t>
            </a:r>
            <a:r>
              <a:rPr b="1" lang="en-US" sz="2800" spc="-1" strike="noStrike">
                <a:solidFill>
                  <a:srgbClr val="ffde06"/>
                </a:solidFill>
                <a:latin typeface="Courier New"/>
              </a:rPr>
              <a:t>q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$g</a:t>
            </a:r>
            <a:r>
              <a:rPr b="1" lang="en-US" sz="2800" spc="-1" strike="noStrike">
                <a:solidFill>
                  <a:srgbClr val="fe9b03"/>
                </a:solidFill>
                <a:latin typeface="Courier New"/>
              </a:rPr>
              <a:t>$?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x ($x)</a:t>
            </a:r>
            <a:r>
              <a:rPr b="1" lang="en-US" sz="2800" spc="-1" strike="noStrike">
                <a:solidFill>
                  <a:srgbClr val="fe9b03"/>
                </a:solidFill>
                <a:latin typeface="Courier New"/>
              </a:rPr>
              <a:t>$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@cnrg.itb.ac.i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 x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 Marl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maka q akan beris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yeni@cnrg.itb.ac.id (Yeni Marli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Pokok Bahasa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jalankan Sendmail Sebagai Daem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ndmail ali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e sendmail.c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nfigurasi sendmail.c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writing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ail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Conditiona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ditional dapat berupa konstruksi "else", dilambangkan dengan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|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taksny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?</a:t>
            </a: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text1 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|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ext2 </a:t>
            </a:r>
            <a:r>
              <a:rPr b="1" lang="en-US" sz="2400" spc="-1" strike="noStrike">
                <a:solidFill>
                  <a:srgbClr val="fe9b03"/>
                </a:solidFill>
                <a:latin typeface="Courier New"/>
              </a:rPr>
              <a:t>$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Class Macro 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 atau 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adalah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rray of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gunakan untuk segala sesuatu yang memiliki bermacam-macam harga tapi ditangani dengan cara yang s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e Class Macro 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 atau 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bronson 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bron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C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o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F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/etc/sendmail.c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gn values to sendmail o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dak ada user-created o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the name of alias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it N minutes for @:@; the rebuild the alias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the blank subtitution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ue mail for expensive mail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uild the alias datab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d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 in background m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Option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O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/usr/lib/ali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F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06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O</a:t>
            </a:r>
            <a:r>
              <a:rPr b="1" lang="en-US" sz="3200" spc="-1" strike="noStrike">
                <a:solidFill>
                  <a:srgbClr val="ffde06"/>
                </a:solidFill>
                <a:latin typeface="Courier New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Trusted Users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definisikan user yang dapat dipercaya untuk mengganti alamat pengirim dengan menggunakan flag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-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i ma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ling um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ro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aem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uuc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Predence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tuk menentukan prioritas messasge dalam antrianny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irst-class=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pecial-delivery=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bulk=-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dc0081"/>
                </a:solidFill>
                <a:latin typeface="Courier New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junk=-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Head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format header yang disertakan dalam mes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ader flag terdapat beberapa tanda tanya, menentukan apakah header itu disertakan atau tidak untuk suatu mailer tertent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 Head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H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P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turn-Path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g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ceived: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?sfrom  $s $.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y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j ($v/$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D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cent-Dat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D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at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F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sent-From: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 $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F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rom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x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ull-Name: 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bjec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M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esent-Message-Id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i@$j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dc0081"/>
                </a:solidFill>
                <a:latin typeface="Courier New"/>
              </a:rPr>
              <a:t>H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?M?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essage-Id: &lt;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0" lang="en-US" sz="2000" spc="-1" strike="noStrike">
                <a:solidFill>
                  <a:srgbClr val="ffde06"/>
                </a:solidFill>
                <a:latin typeface="Courier New"/>
              </a:rPr>
              <a:t>$i@$j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Objektif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mpu mengkonfigurasi sendmail pada UN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mpu menggunakan send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program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maile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yang dipakai sendma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tak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name, {field=value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ler Definition Fiel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h of the mail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/bin/ma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lag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dmail flags for this mail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lsDF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de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set for sender address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cipien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leset for recipient addresse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gv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mailer argument vector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sh -c $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o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d-of-line string for the maile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\r\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siz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ximum message lengt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de06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100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Defining Mailer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local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/bin/mail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rlsDFMmn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mail -d $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rog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/bin/sh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lsDFMe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0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sh -c $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Courier New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tcp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=[IPC]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F=mDFMueXLC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=14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=24,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=IPC $h, E=\r\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Sintak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Courier New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atter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ransformation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om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Pattern Match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*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zero or more tok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+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one or more toke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-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exactly one tok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=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clas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~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not in class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ll token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%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NIS map named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!X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not in NIS map named in macro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$%y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ch any token in the NIS hosts.byname ma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ken adalah string dalam e-mail address yang dipisahkan oleh ope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: alamat tetih@cnrg.itb.ac.id mengandung tok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tih, @, cnrg, . , itb, . , ac, . , i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amat itu akan match dengan pattern: $-@$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Rewriting Mail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finite token adalah string yang match, dan dinomori beruru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: address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etih@cnrg.itb.ac.i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fe9b03"/>
                </a:solidFill>
                <a:latin typeface="Courier New"/>
              </a:rPr>
              <a:t>$-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@</a:t>
            </a:r>
            <a:r>
              <a:rPr b="0" lang="en-US" sz="2800" spc="-1" strike="noStrike">
                <a:solidFill>
                  <a:srgbClr val="fe9b03"/>
                </a:solidFill>
                <a:latin typeface="Courier New"/>
              </a:rPr>
              <a:t>$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a  dua  indefinite token yaitu  $1 yan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teti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an $2 yang berisi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cnrg,.,itb,.,ac,.,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finite token dapat direfer dengan $1, $2, $3 , dan seterusny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ndefinisikan format yang digunakan  untuk me-rewrite add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formation metasimb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stitute indefinite toke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[</a:t>
            </a:r>
            <a:r>
              <a:rPr b="0" i="1" lang="en-US" sz="2400" spc="-1" strike="noStrike">
                <a:solidFill>
                  <a:srgbClr val="ffde06"/>
                </a:solidFill>
                <a:latin typeface="Times New Roman"/>
              </a:rPr>
              <a:t>name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stitute canonical 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&gt;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 ruleset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@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inate rule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de06"/>
                </a:solidFill>
                <a:latin typeface="Times New Roman"/>
              </a:rPr>
              <a:t>$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inate rewrite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 trasformasi addr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Addres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nt&lt;@nbsenh.bitnet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Rewrite ru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dc0081"/>
                </a:solidFill>
                <a:latin typeface="Courier New"/>
              </a:rPr>
              <a:t>R</a:t>
            </a:r>
            <a:r>
              <a:rPr b="1" lang="en-US" sz="1800" spc="-1" strike="noStrike">
                <a:solidFill>
                  <a:srgbClr val="ffde06"/>
                </a:solidFill>
                <a:latin typeface="Courier New"/>
              </a:rPr>
              <a:t>$+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@</a:t>
            </a:r>
            <a:r>
              <a:rPr b="1" lang="en-US" sz="1800" spc="-1" strike="noStrike">
                <a:solidFill>
                  <a:srgbClr val="ffde06"/>
                </a:solidFill>
                <a:latin typeface="Courier New"/>
              </a:rPr>
              <a:t>$+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bitnet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$1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$2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@&lt;@</a:t>
            </a:r>
            <a:r>
              <a:rPr b="1" lang="en-US" sz="1800" spc="-1" strike="noStrike">
                <a:solidFill>
                  <a:srgbClr val="fe9b03"/>
                </a:solidFill>
                <a:latin typeface="Courier New"/>
              </a:rPr>
              <a:t>SB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se the Bitnet re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Hasil transformas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hu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nbsen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lt;@</a:t>
            </a:r>
            <a:r>
              <a:rPr b="0" lang="en-US" sz="2800" spc="-1" strike="noStrike">
                <a:solidFill>
                  <a:srgbClr val="fe9b03"/>
                </a:solidFill>
                <a:latin typeface="Times New Roman"/>
              </a:rPr>
              <a:t>cunyum.cuny.ed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38188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address toke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 &lt; @  nbsenh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.  bitnet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|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pattrer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+    &lt; @  $+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.  bitnet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indefinite token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     nbsen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transform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1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%   $2     &lt; @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B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|          |             |   |                |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|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c0081"/>
                </a:solidFill>
                <a:latin typeface="Times New Roman"/>
              </a:rPr>
              <a:t>rewritten addres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unt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%   nbsenh &lt; @ cunyum.cuny.edu 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[name$]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gkonversi host's nickname  atau IP addressnya kedalam canonical namenya dengan memberikan harga name ke name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$&gt;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anggil ruleset 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oh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$&gt;9$1%$2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kan memanggil rulset 9 dan memberikan harga $1, %, $2 kepadanya untuk  dipro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Overview 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dmail dibuat untuk mengatasi masalah dalam konfigurasi bermacam-macam program dan protocol yang digunakan untuk e-mail yang memiliki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livery progra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ddressing schem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ang berbe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Transforming the addres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mbol $@ dan $: untuk control proce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transformasi diawali dengan  $@, ruleset berhenti, dan hasilnya adalah  hasil akhir proses transformas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ka trasformasi diawali dengan $: ruleset hanya  dieksekusi sekali, dapat menghindari loops saat memanggil ruleset l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pecial Rewrite Rule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 rewrite rule syntax yang hanya ada pada ruleset 0 untuk menuliskan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#mailer$@host$:u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Rewrite ru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#resolveSMTP traff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R$*&lt;@$+&gt;$*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$#tcpld$@$2$:$1&lt;@$2&gt;$3     user@host.dom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Addres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etih&lt;@cnrg.itb.ac.i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0081"/>
                </a:solidFill>
                <a:latin typeface="Times New Roman"/>
              </a:rPr>
              <a:t>Hasil transformas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#tcpld$@cnrg.itb.ac.id$:tetih&lt;@cnrg.itb.ac.id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adalah kumpulan dari ruleset yang dapat di-refer dengan angk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ntaks: </a:t>
            </a:r>
            <a:r>
              <a:rPr b="0" lang="en-US" sz="32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lset yang punya fungsi khusus dalam sendmai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set 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yang pertama kali dikenakan pada address. Mengkonversi address kedalam bentuk canonical-nya local-part@host.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recipient address. Menghasilkan triple mailer,host,us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ad seluruh alamat pengiri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seluruh alamat pener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0081"/>
                </a:solidFill>
                <a:latin typeface="Times New Roman"/>
              </a:rPr>
              <a:t>Ruleset 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dikenakan pada seluruh address. Menterjemahkan internal address format ke dalam external address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t ruleset Command (</a:t>
            </a:r>
            <a:r>
              <a:rPr b="0" lang="en-US" sz="4400" spc="-1" strike="noStrike">
                <a:solidFill>
                  <a:srgbClr val="dc0081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619760" cy="3886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ore Informatio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ensi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CP/IP Network Administra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, Craig Hunt, O’Reilly &amp; Associates, In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tp://... sendmail.8.6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ung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girim mail ke seorang user dengan program delivery yang cocok yang berdasarkan kepada alamat e-mai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erima dan mengirim internet (SMTP) m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yediak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ystem-wide mail alia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sehingga memungkinkan mailing 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Fungsi sendmail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43000" y="2057400"/>
          <a:ext cx="6553080" cy="40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655308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Menjalankan sendmail</a:t>
            </a:r>
            <a:br>
              <a:rPr sz="4400"/>
            </a:b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bagai Daemon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742840"/>
            <a:ext cx="830556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if [ -f /usr/lib/sendmail ]; t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cd /usr/spool/mqueue; rm -f lf*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/usr/lib/sendmail -bd -q1h; echo -n ' sendmail' &gt; /dev/conso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f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ndmail aliase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nany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lternate name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tuk setiap 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warding mail ke host l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9b0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ling li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de0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Format file /etc/alias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e9b0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lias_name: recipient1[ ,recipient2, ...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191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2360" y="915840"/>
            <a:ext cx="6839280" cy="759240"/>
          </a:xfrm>
          <a:prstGeom prst="rect">
            <a:avLst/>
          </a:prstGeom>
          <a:solidFill>
            <a:srgbClr val="474747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e06"/>
                </a:solidFill>
                <a:latin typeface="Times New Roman"/>
              </a:rPr>
              <a:t>Sendmail aliases</a:t>
            </a:r>
            <a:endParaRPr b="0" lang="en-US" sz="4400" spc="-1" strike="noStrike">
              <a:solidFill>
                <a:srgbClr val="ffde0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oh file /etc/ali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special n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ostmaster: adn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oot: arm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accept first-initial_last-name@itb.ac.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rudi: rudi@system.pa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aniel: daniel@cn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#a mailing l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dmin: adnan, ismail, arman, yeni@hme.ee,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tetih@biot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owner-admin: arm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7-12T14:28:18Z</dcterms:created>
  <dc:creator/>
  <dc:description/>
  <dc:language>en-US</dc:language>
  <cp:lastModifiedBy>Onno W. Purbo</cp:lastModifiedBy>
  <cp:lastPrinted>1995-11-19T15:43:52Z</cp:lastPrinted>
  <dcterms:modified xsi:type="dcterms:W3CDTF">1999-04-19T03:11:23Z</dcterms:modified>
  <cp:revision>15</cp:revision>
  <dc:subject/>
  <dc:title>Training</dc:title>
</cp:coreProperties>
</file>