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62B-7A8D-43F4-8A7B-31AF0BFB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AE0-61A2-4331-93A0-62C7EBD9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5D8-5D55-42EB-99BA-DB160FD9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334-CEBA-48D9-91B5-3581F15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A430-0F79-450E-A633-4662A421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F5FC-5413-4FA6-A5A6-AEBCBA6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FE7-C5D0-4699-AA16-339C236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359-8C9F-42F2-9D53-4F9882F8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FC18-685C-4A22-B9C2-F87E2588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8F58-575B-47B5-B9FC-3E463FD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7C15-A11D-4EC4-BB3F-A63D45E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76C-C67E-4493-8D86-680703A6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1D3-7638-4443-AD5A-DFE138D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8C50-DA38-4E55-B227-C5ABF68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BB6D-F5DE-4A85-9803-1C2A925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7AD1-2E6F-42B5-980F-DA94E000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78BB-124A-4A17-9713-B62DBFE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295-E505-45B6-B956-142103E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3DF-4C48-4541-8358-F4DA1EA2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A7F-4272-4E21-8BD3-468D3B8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060-401C-4C7B-840E-D143D6F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306-1C42-4BCC-A9BE-27D5009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7D0-9914-4CC6-9DFF-1426821C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976-30AF-4BA2-8763-3EB0483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19E-32EA-4EE6-B7E5-58023F636E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6D2B-F3F6-4BA7-ADA6-CDF8DCD494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STASIUN RADIO HARUS MEMILIK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LL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114800"/>
            <a:ext cx="8686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PANCARAN RADIO HARUS SELAL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YEBUTKAN CALLSIGN DENGAN LENGKAP DALAM INTERVAL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7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= NAMA PANGGI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5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GKUL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M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MPU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S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S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SAA - YZZ          ZS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M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MZZ          ZAA - ZM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A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N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N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NAA - PZZ          ZN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A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PZZ          ZH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N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NZZ          ZHA - Z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OA - T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O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OAA - PZZ          ZO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752480"/>
            <a:ext cx="9478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3240" y="1752480"/>
            <a:ext cx="209052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52480"/>
            <a:ext cx="2057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H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HZZ          ZHA - Z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I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IAA - LZZ          ZI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-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8            RAA - S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572000"/>
            <a:ext cx="8686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334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–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– U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2578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2578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E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M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23888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752480"/>
            <a:ext cx="94788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1752480"/>
            <a:ext cx="209052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752480"/>
            <a:ext cx="2057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881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51460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567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A - YZZ          ZV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62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–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RONTAL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G, YF,Y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RAA - SZZ          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21480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-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-U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4956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4956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686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53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 UTARA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867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–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XAA - Y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8672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1752480"/>
            <a:ext cx="94788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3240" y="1752480"/>
            <a:ext cx="20905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752480"/>
            <a:ext cx="20574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F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FZZ          ZAA - ZF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B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GA - K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 - 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GAA - KZZ         ZGA - Z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Q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U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4572000"/>
            <a:ext cx="8686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L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L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LAA - PZZ          ZL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USUN DALAM BENTUK KOMBINA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URUF DAN ANG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AM SATU KESATUAN YANG TERDIRI ATA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FIX &amp; SUF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0384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LOKASI (NEGARA &amp; W.R.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LENGKAPAN PREFIX UNTU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PEMILIK STASI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ahoma"/>
              </a:rPr>
              <a:t>YB</a:t>
            </a:r>
            <a:r>
              <a:rPr b="1" lang="en-US" sz="8000" spc="-1" strike="noStrike">
                <a:solidFill>
                  <a:srgbClr val="3333ff"/>
                </a:solidFill>
                <a:latin typeface="Tahoma"/>
                <a:ea typeface="Arial"/>
              </a:rPr>
              <a:t>ØCA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KA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19920"/>
            <a:ext cx="2009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5120" y="5633640"/>
            <a:ext cx="9144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19040" y="262908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124080" y="243828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0532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133720"/>
            <a:ext cx="4648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. Iskandar A.Q. SAL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. PLN Duren Tiga, Jl, Jatiluhur no.34. JAKARTA 12760 -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05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JAWA BA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7760" y="6019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86000" y="5633640"/>
            <a:ext cx="53352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62000" y="27050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047760" y="281916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66480" y="3733920"/>
            <a:ext cx="28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133720"/>
            <a:ext cx="3276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ON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 RUA AGUSTA        SAO PAULO -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652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Y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9810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P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85144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49108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22916 0.00671 E">
                                      <p:cBhvr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21666 6.93642E-007 E">
                                      <p:cBhvr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884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TINGKATAN /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ula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 Cod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D &amp; Y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ag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vice   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C &amp; Y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gal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General 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B &amp; Y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ega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dvance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58200" cy="4224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LAYAH RADIO AMATIR = CALL AREA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F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 s/d 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 dgn rekomendasi ORARI Pu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0532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ZA s/d ZZ   &amp;   ZAA s/d Z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5484960"/>
            <a:ext cx="8534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319"/>
                </a:solidFill>
                <a:latin typeface="Tahoma"/>
              </a:rPr>
              <a:t>QAA s/d QZZ, SOS, TTT, XXX, DDD</a:t>
            </a:r>
            <a:r>
              <a:rPr b="1" lang="en-US" sz="3200" spc="-1" strike="noStrike">
                <a:solidFill>
                  <a:srgbClr val="e90319"/>
                </a:solidFill>
                <a:latin typeface="Tahom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DAK DIALOKAS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6580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A s/d AZ,  AAA s/d PZZ,  RAA s/d Y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PEROR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ART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Q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T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R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 ZR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I.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752480"/>
            <a:ext cx="94788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1752480"/>
            <a:ext cx="20905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752480"/>
            <a:ext cx="20574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MB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E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EZZ          ZAA - Z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19112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9053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          ZF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848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8481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5101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B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ZFA - Z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167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6095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60958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4:32:59Z</dcterms:created>
  <dc:creator>.</dc:creator>
  <dc:description/>
  <dc:language>en-US</dc:language>
  <cp:lastModifiedBy>Ir. Iskandar A.Q. SALEH</cp:lastModifiedBy>
  <dcterms:modified xsi:type="dcterms:W3CDTF">2004-05-07T05:10:28Z</dcterms:modified>
  <cp:revision>9</cp:revision>
  <dc:subject/>
  <dc:title>Slide 1</dc:title>
</cp:coreProperties>
</file>