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D5E5-21AC-4510-B76C-E412036A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5A1-2DDB-4291-9BE5-D5C0A8D3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54B-CA78-403E-96A7-82D5A7B6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D8CF-E485-44EB-9660-6B4C8462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3F71-598F-460A-81B2-CFA981C1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9716-237E-4A06-A9D7-4BDF1470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B14-D6FA-4036-BBFA-FE0F50C6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76E0-6A00-4399-84D4-7A4F7FD3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45E6-9A2B-4138-BECF-71A77DFC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0576-1BE3-4D7B-9B98-55BDC919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F39-F142-419C-B257-B525ADF9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B550-5B7E-4572-9423-2EF8846B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82EC-DFA0-407B-9FC1-314F3CE066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1040" y="309600"/>
            <a:ext cx="8390160" cy="582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95280" y="5333760"/>
            <a:ext cx="64771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ternet Linking for Amateur Rad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311040" y="309600"/>
            <a:ext cx="8390160" cy="582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7621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LinkingExample" descr=""/>
          <p:cNvPicPr/>
          <p:nvPr/>
        </p:nvPicPr>
        <p:blipFill>
          <a:blip r:embed="rId1"/>
          <a:stretch/>
        </p:blipFill>
        <p:spPr>
          <a:xfrm>
            <a:off x="1600200" y="1073160"/>
            <a:ext cx="594360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6000" y="7617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EchoLink</a:t>
            </a:r>
            <a:endParaRPr b="0" lang="en-US" sz="7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dding a Repeat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2" name="EchoLink_Mike_Joe_Sam_Repeat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ringing it all Togeth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5" name="EchoLink3_TheWholeGroup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9288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art 97 Link Requiremen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mplex link and Repeater link as depicted here require a control operator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Link is installed at the repeater side, it becomes a part of the repeater, and can then run in “automatic control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nd now -- The Software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486040" y="2362320"/>
            <a:ext cx="3048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is the main Screen, listing the Stations currently on the Link, by Country, Call Zone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2578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ttom of the Screen shows the current Transmit and Receive Audio levels in a colored bar graph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echolink_screenshot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502920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sic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81480" y="2437920"/>
            <a:ext cx="33530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thing to do after installing the software is to configure your Station Set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EL_InitialSetup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4343400" cy="3260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480" y="52578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he first time you use Echolink, you will have to wait to be validated, before you are connected to the EchoLink serv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udio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209680"/>
            <a:ext cx="236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cludes your Audio details, for the PC Speakers and Microph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ELaudio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4935600" cy="3662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onnection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2362320"/>
            <a:ext cx="297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creen allows you to configure the various Internet connections you are willing to accep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ELpreferances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4876920" cy="3578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685800" y="1676520"/>
            <a:ext cx="7162200" cy="2390760"/>
            <a:chOff x="685800" y="1676520"/>
            <a:chExt cx="7162200" cy="239076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685800" y="1676520"/>
              <a:ext cx="3207960" cy="239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"/>
            <p:cNvGrpSpPr/>
            <p:nvPr/>
          </p:nvGrpSpPr>
          <p:grpSpPr>
            <a:xfrm>
              <a:off x="3911400" y="2571840"/>
              <a:ext cx="3936600" cy="824040"/>
              <a:chOff x="3911400" y="2571840"/>
              <a:chExt cx="3936600" cy="824040"/>
            </a:xfrm>
          </p:grpSpPr>
          <p:sp>
            <p:nvSpPr>
              <p:cNvPr id="101" name=""/>
              <p:cNvSpPr/>
              <p:nvPr/>
            </p:nvSpPr>
            <p:spPr>
              <a:xfrm>
                <a:off x="5387760" y="2571840"/>
                <a:ext cx="24602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his is the Outpu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911400" y="2693160"/>
                <a:ext cx="1476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1600200" y="3657600"/>
            <a:ext cx="6838560" cy="2286000"/>
            <a:chOff x="1600200" y="3657600"/>
            <a:chExt cx="6838560" cy="2286000"/>
          </a:xfrm>
        </p:grpSpPr>
        <p:grpSp>
          <p:nvGrpSpPr>
            <p:cNvPr id="104" name=""/>
            <p:cNvGrpSpPr/>
            <p:nvPr/>
          </p:nvGrpSpPr>
          <p:grpSpPr>
            <a:xfrm>
              <a:off x="1600200" y="4296600"/>
              <a:ext cx="3756600" cy="824040"/>
              <a:chOff x="1600200" y="4296600"/>
              <a:chExt cx="3756600" cy="824040"/>
            </a:xfrm>
          </p:grpSpPr>
          <p:sp>
            <p:nvSpPr>
              <p:cNvPr id="105" name=""/>
              <p:cNvSpPr/>
              <p:nvPr/>
            </p:nvSpPr>
            <p:spPr>
              <a:xfrm>
                <a:off x="1600200" y="4296600"/>
                <a:ext cx="23068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his is the Inpu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972960" y="4487040"/>
                <a:ext cx="138384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5431320" y="3657600"/>
              <a:ext cx="300744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609480" y="144792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Two Pc Audio Scree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Receiv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828800"/>
            <a:ext cx="2210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Op Mode is used when interfacing a Transceiver, and requires additional setup parame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ELsysop_RX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54799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Transmi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6765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8288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ELsysop_TX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544356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248520" y="2209680"/>
            <a:ext cx="2361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 number of choices for triggering the PTT interface to the Ri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General Topics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EchoLink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ous Mo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guring EchoLink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to Computer via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ceiver to Computer to the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Radio Interfac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Linking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really Amateur Radi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9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Identificatio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ELsysop_Ident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4876920" cy="3651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220968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CW and Voice ID are available, along with the method and time interval for the ID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990720" y="1752480"/>
            <a:ext cx="2971800" cy="1828440"/>
            <a:chOff x="990720" y="1752480"/>
            <a:chExt cx="2971800" cy="182844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990720" y="2099160"/>
              <a:ext cx="2971800" cy="14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362960" y="1752480"/>
              <a:ext cx="1963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ransceiv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25480" y="1752480"/>
            <a:ext cx="3100320" cy="3200400"/>
            <a:chOff x="5325480" y="1752480"/>
            <a:chExt cx="3100320" cy="320040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5425920" y="2243160"/>
              <a:ext cx="2837160" cy="27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325480" y="1752480"/>
              <a:ext cx="310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mputer and Softwa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752480" y="3733920"/>
            <a:ext cx="2819520" cy="2133360"/>
            <a:chOff x="1752480" y="3733920"/>
            <a:chExt cx="2819520" cy="2133360"/>
          </a:xfrm>
        </p:grpSpPr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1752480" y="4115160"/>
              <a:ext cx="2819520" cy="17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529000" y="3733920"/>
              <a:ext cx="127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What’s Needed for SysOp Mode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spd="slow">
    <p:cover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king Your Own Interfac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reo patch cord with 1/8” plugs from receiver audio to PC “Line-In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ch cord from PC “Mic-Out” to Transmitter Audio input (should be attenuated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ial PTT circuitry from COM por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interface_rts_ttl" descr=""/>
          <p:cNvPicPr/>
          <p:nvPr/>
        </p:nvPicPr>
        <p:blipFill>
          <a:blip r:embed="rId1"/>
          <a:stretch/>
        </p:blipFill>
        <p:spPr>
          <a:xfrm>
            <a:off x="2438280" y="4648320"/>
            <a:ext cx="4038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ut, a “Good” Interface should: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e the computer audio from transceiv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uate the speaker/line level out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matching of audio to mic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ion of all grou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easy to hook up, and leave in-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ome Soundcard Interfac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44" name="Rigblasters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3200400" cy="1809720"/>
          </a:xfrm>
          <a:prstGeom prst="rect">
            <a:avLst/>
          </a:prstGeom>
          <a:ln w="0">
            <a:noFill/>
          </a:ln>
        </p:spPr>
      </p:pic>
      <p:pic>
        <p:nvPicPr>
          <p:cNvPr id="145" name="echolinkWB2REM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2328840" cy="1509840"/>
          </a:xfrm>
          <a:prstGeom prst="rect">
            <a:avLst/>
          </a:prstGeom>
          <a:ln w="0">
            <a:noFill/>
          </a:ln>
        </p:spPr>
      </p:pic>
      <p:pic>
        <p:nvPicPr>
          <p:cNvPr id="146" name="interface_VA3TO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3276720" cy="1409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51055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IGblaster is the more common interface, with jumpers to configure any brand of microphone and ri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038480" y="2057400"/>
            <a:ext cx="28958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205740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IGblas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West Mountain radio is probably the most versati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88620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952880" y="411480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ncludes a software CD for most popular Soundcard programs including PSK, SSTV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312408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“jumper” configurations to interface to “Any” radio microphone wiring sche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5627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st Mountain Radio provides excellent Internet, email and phone supp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 good Choice for the Interfac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7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7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5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7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RIGblaster Featur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o-isolation prevents ground loo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able PC speaker level output to mic in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s directly into the mic jack on your transceiver with an included 8 pin round to RJ45 adap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ncludes a Serial cable, along with stereo speaker and microphone input cab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uses the existing jacks on computer and ri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 be used with almost any brand and model of radio, using internal microphone jump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 stay in-line at all tim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different models avail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Other VoIP Applicat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ndow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Lin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Specialized Inte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res I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- Special Yaesu Inte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S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No Call Sign Validation (allows SWL connecti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nux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inux – Specialized Interface – Strictly Repeater to Repe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3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3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3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two Most Popula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choLin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Individual User Connec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can be homebrew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on-going support expense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operating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523880"/>
            <a:ext cx="3429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 R L 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s Repeaters – not individual u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proprietary interface board at $10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um of $30.00 year donation sugges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ux operating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ros and C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Hams traveling away to stay in contact with Hams back home through a Repeater link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Technician licensees a chance to experience DX Contact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SL’s are not valid for things like DXC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“middle” connection is the Internet, and this is a “wired” connection – not wireless RF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hat is EchoLink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hoLink uses VoIP (Voice Over Internet Protocol) to allow licensed Amateur Radio Operators to communicate with other Amateurs via the Internet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primarily a Windows based application and is offered free of charge at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http://www.echolink.org.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also a new EchoLinux and EchoMac available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was developed by Jonathan Taylor (K1RFD) in 2002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 received Hamvention 2003 Special Achievement Awa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ut Again – </a:t>
            </a: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“Is it Ham Radio?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long as there is a Simplex or Repeater Link involved it is a new “mode” – It is that simple!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orldwide Regulatory agencies like the FCC, ART, IBPT, OFCOM, SRR, etc. have recognized it as another Ham “tool” like SSTV or PSK31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ing these “links” you must still ID and follow all regulations, including International rules and Third party agreement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we don’t keep using our Radios in as many modes as we can, we are going to lose some of the band allocations we have worked so hard f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ome Commen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allows us to expand upon our different Ham activities, and gives Amateur Radio a new dimension with a new technology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 your Transceiver up to it and use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new technologies like Cell Phones, RFID, (BPL?), are competing for our bandwidth, so lets utilize it with all the modes available.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 U T  Remember…………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Amateur Radio has grown to embrace new technologies and has now become more than just “Radio” , it is really 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without “Radio”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600"/>
                            </p:stCondLst>
                            <p:childTnLst>
                              <p:par>
                                <p:cTn id="4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redi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of the Graphics of the various Modes are from the “Ops Tips” page of West Mountain Radio’s Web site, and used with their permiss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westmountainradio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2057400"/>
            <a:ext cx="3124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hat Modes are Available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operated strictly between two computers connected to the Internet using the PC soundcard with Speakers and a Microphone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interfaced to a standard FM transceiver as a “simplex link” from your home QTH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interfaced to a VHF or UHF repeater for more coverag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choLink “User Mode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7" name="EchoLink_Mike_Joe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s this really Ham Radio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0" name="EchoLink_Mike_Joe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t Depends upon how you “use” it!!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User PC to PC involves no R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just another Internet “Chat Room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implex-Link or Repeater connection now makes it a “new” Amateur Radio Mo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dding a “Simplex-Link”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6" name="EchoLink_Mike_Joe_Sam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xpanding the “Link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9" name="EchoLink_Mike_Joe_Sam_BackYard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15:21:03Z</dcterms:created>
  <dc:creator>Bob Wiseman</dc:creator>
  <dc:description/>
  <dc:language>en-US</dc:language>
  <cp:lastModifiedBy>Bob Wiseman</cp:lastModifiedBy>
  <dcterms:modified xsi:type="dcterms:W3CDTF">2005-02-04T14:23:19Z</dcterms:modified>
  <cp:revision>174</cp:revision>
  <dc:subject/>
  <dc:title>APRS</dc:title>
</cp:coreProperties>
</file>